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85A-76E2-40F0-BAED-4D3564D4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A09-0EE2-4A0B-A5E2-F3CB3FCB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7E7-4C11-47CC-BA18-C45EA0D0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B7E-A1E0-4CC1-B974-1FDEF33B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596-7196-4DE2-9D2F-E3493252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425-A808-4F38-A359-EA020688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5C7-A2B1-4BB0-9967-A4C5F75C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D3A-134C-4A58-84C4-3C3B3047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917-5B66-4AF1-B94A-E7CFD3CF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C19-5E91-4062-823F-6733ECE1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8729-CA82-410F-81E0-C61658EF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76A-B2C3-470F-AF9C-1B14F35B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6ABC-AE18-429B-98E2-0C88D27CC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rd’s Exchange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two objects come into contact with one another, there is an exchange of materials between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cross transfer of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9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minal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3124080"/>
            <a:ext cx="248292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Types of Physical Evidence for CH 1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oleum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and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367000" cy="1825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177624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Common Types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ody fluids such as 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ger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2057400"/>
            <a:ext cx="2394000" cy="208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4495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ination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ication,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hysical or chemical identity of a substance with as near absolute certainty as existing analytical techniques will 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evidence share a common origin with a standard or reference 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sample collected from a suspect is compared to a sample collected from the crime sc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glass characteriz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s sample collected from the suspect is compared to glass samples collected from the crime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95680" y="3733920"/>
            <a:ext cx="3463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s find and measure properties associating one glass fragment with another while minimizing or eliminating other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evidential value when a fragment can be individualized to on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the physical matching of crime scene and suspect glass (they fit toge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71936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he pieces don’t fit togeth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composition of window glass does not vary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elements have been found helpful for narrowing the origin of the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 and density are class characteristics; they cannot provide the sole criteria for individualizing glass to a common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15000" y="5275440"/>
            <a:ext cx="27781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refractive index and density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he analyst sufficient data to evaluate the significance of a glass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ence of comparable density and refractive index will exclude fragments originating from different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20988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11:10Z</dcterms:created>
  <dc:creator>LCC Department</dc:creator>
  <dc:description/>
  <dc:language>en-US</dc:language>
  <cp:lastModifiedBy>LCC Department</cp:lastModifiedBy>
  <dcterms:modified xsi:type="dcterms:W3CDTF">2011-04-06T16:39:26Z</dcterms:modified>
  <cp:revision>7</cp:revision>
  <dc:subject/>
  <dc:title>Locard’s Exchange Principle</dc:title>
</cp:coreProperties>
</file>