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CCD-193E-48D0-9853-B7EF56ED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E26-9AE3-44A9-9572-F5FDC6B4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3E6-4F80-42D6-8930-1A692DA5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037-F1C9-4DF1-9E43-33174124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A7E-44E3-43FB-8732-817C764E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477-E87B-4BA1-961A-F16C6BC0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73F-D445-401C-84D1-22271771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9D7-7840-45EB-B6DA-262C7479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CE7-83E2-4880-8961-A193E3F2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5F6-9759-49FB-971B-3ADDA2B3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94D-95B3-467D-93ED-26312D1F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098-55DE-4AE2-ABD9-5F2A0FDE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2EE5-13CF-4CDD-9279-BF3DFDB1D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xam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explain the purpose of a standard or reference sample. Give an example and include where the reference or standard would be collected from and how the sample would be used by a forensic scienti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4572000"/>
            <a:ext cx="182700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earn full cred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urpose of a standard or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where the reference or standard would be collected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sample would be used by a forensic 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483876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Key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.  A pure, known sample of a drug or a piece of glass collected from a broken window at a crime scene would be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ure, known sample of a drug or a piece of g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43800" y="5067360"/>
            <a:ext cx="14241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from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ed from a broken window at a crime sc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s other samples collected from the suspect or crime scene to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15670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6:25:32Z</dcterms:created>
  <dc:creator>LCC Department</dc:creator>
  <dc:description/>
  <dc:language>en-US</dc:language>
  <cp:lastModifiedBy>LCC Department</cp:lastModifiedBy>
  <dcterms:modified xsi:type="dcterms:W3CDTF">2012-05-02T16:31:30Z</dcterms:modified>
  <cp:revision>2</cp:revision>
  <dc:subject/>
  <dc:title>Previous Exam Question</dc:title>
</cp:coreProperties>
</file>