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7.jpeg" ContentType="image/jpeg"/>
  <Override PartName="/ppt/media/image6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312B-E9A9-48D6-85A6-8858B687B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BBF4-E02C-4916-A42B-04FD585F4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0537-C418-4D6F-A0F8-A2F1219EB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2944-F564-4328-B7D8-60F5C9A7D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E0A7-6B4C-4A83-A9EC-D1B08EF80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1761-AEE0-404A-81CA-2C90BFDBB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7C4F-735D-438A-A77E-769B2501A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91E3-1308-4373-B3E9-BFE5241A9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32DA-1C11-45BB-95AB-5F545AFE5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DDB8-3316-4ADD-86C4-4749A031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75D7-878E-4DA2-BE30-FBB5B772C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0B44-2CAF-42D3-85AE-E312C6E06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B0793-1515-46B3-A626-0EABD06D3A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ontaneous Combu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ire caused by natural heat-producing process in the presence of sufficient air and fu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occurs in poorly ventilated contai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don’t spontaneous combu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315200" y="2895480"/>
            <a:ext cx="123660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xidation Reactions without 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othermic oxidation reactions = EXPLO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 gaseous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osion is caused by an increase in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onation is so fast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esn’t get a chance to participate = rapid expansion of g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705720" y="1066680"/>
            <a:ext cx="1654200" cy="2227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477120" y="5283360"/>
            <a:ext cx="2065320" cy="15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Explos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ified by speed of deto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1000 m/s high-velocity, deto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1000 m/s low-velocity, defla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onation = supersonic shock wave is created, rapid oxidation, chemical bonds break apart, more heat and gases build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lagration = burning, rapid oxidation, low-intensity pressure w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55720" cy="1635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81920" y="533520"/>
            <a:ext cx="2062080" cy="27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tecting and Analyzing Explos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priate samples must be coll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tonated residues from crater or objects near ori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on mobility spectrometer (IMS) is used in the field; screens for the presence of resid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are verified through confirmatory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553080" y="5181480"/>
            <a:ext cx="1959120" cy="15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 at the l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scopic examination, debris is rinsed with acetone to remove residues from debris, extract is concentrated, analyzed with color spot tests, TLC, HPLC and GC/mass spe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rmatory tests: IR, x-ray diff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_x000e_fg05_00800.jpg                                                 0002955C_x000c_Macintosh HD                   ABA78158:"/>
          <p:cNvPicPr/>
          <p:nvPr/>
        </p:nvPicPr>
        <p:blipFill>
          <a:blip r:embed="rId1"/>
          <a:stretch/>
        </p:blipFill>
        <p:spPr>
          <a:xfrm>
            <a:off x="5486400" y="1295280"/>
            <a:ext cx="2376360" cy="2221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_x000e_fg05_00500.jpg                                                 0002955C_x000c_Macintosh HD                   ABA78158:"/>
          <p:cNvPicPr/>
          <p:nvPr/>
        </p:nvPicPr>
        <p:blipFill>
          <a:blip r:embed="rId2"/>
          <a:stretch/>
        </p:blipFill>
        <p:spPr>
          <a:xfrm>
            <a:off x="5029200" y="3886200"/>
            <a:ext cx="353700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on Explos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nitrotoluene (T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lorate (Cl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trate (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troglycer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952880" y="1143000"/>
            <a:ext cx="2057400" cy="2257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Picture of nitroglycerine"/>
          <p:cNvPicPr/>
          <p:nvPr/>
        </p:nvPicPr>
        <p:blipFill>
          <a:blip r:embed="rId2"/>
          <a:stretch/>
        </p:blipFill>
        <p:spPr>
          <a:xfrm>
            <a:off x="4191120" y="3809880"/>
            <a:ext cx="2962080" cy="25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5T16:34:41Z</dcterms:created>
  <dc:creator>LCC Department</dc:creator>
  <dc:description/>
  <dc:language>en-US</dc:language>
  <cp:lastModifiedBy>LCC Department</cp:lastModifiedBy>
  <dcterms:modified xsi:type="dcterms:W3CDTF">2011-05-11T15:41:13Z</dcterms:modified>
  <cp:revision>30</cp:revision>
  <dc:subject/>
  <dc:title>Arson</dc:title>
</cp:coreProperties>
</file>