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FF8-8029-41F5-BAFF-139D0CDC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CB6-4841-4255-8FCB-292D16BF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E11-D374-48A7-841A-B51E5E76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66E-A3F5-4332-8B0C-02C3F1C8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776-7817-4C4E-82CC-A4F1A301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E82-88F6-4AD8-BE96-9BC958F1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BB3-350B-4748-B543-61A7CD12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015-845D-426E-8761-7649B886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F4C-6AD3-421B-84FF-BFB25529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61B-158E-44E5-9720-424E3C0D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780-1749-4FEB-B5E5-E69E2859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19D-A2CB-413B-8781-82D7A67D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781F-407D-4ED7-BA49-8FD500C79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sitively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(n) are not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negatively charged, found outside the nucleus, have a relative mass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8334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net charge so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#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each element contain a different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tomic #, it’s the whole number of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25592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# =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#n  (protons plus neu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= weighted average.  Atoms of the same element can have a different number of neutrons =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opes of Hyd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tom has one pro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-1, hydrogen-2, hydroge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name – mas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_x000e_fg06_008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286000"/>
            <a:ext cx="87631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nucleus in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s define an area in space around the nucleus where the electron is likely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bital has a specific amount of energy =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st stable form of an atom, all electrons are in the lowest possible energy levels = grou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nergy moves the electrons from a lower energy state to a higher energ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gher energy level the electrons are said to be EX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5603760" cy="24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747720" cy="88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5541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2:48Z</dcterms:created>
  <dc:creator>LCC Department</dc:creator>
  <dc:description/>
  <dc:language>en-US</dc:language>
  <cp:lastModifiedBy>LCC Department</cp:lastModifiedBy>
  <dcterms:modified xsi:type="dcterms:W3CDTF">2012-04-30T16:24:38Z</dcterms:modified>
  <cp:revision>2</cp:revision>
  <dc:subject/>
  <dc:title>Atoms, the fundamental and smallest particle of each element</dc:title>
</cp:coreProperties>
</file>