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BC89-A81F-4630-91E5-BD630498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BF1-F02B-4A16-822C-FE15D6DF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6AA4-FC26-4A8A-82F4-6572B022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0EC-069A-437D-BECB-4F6C169F4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37B-DE71-45F8-83F7-FED3882A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882-1798-401B-BC15-64E69374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D647-8576-422B-8B23-AE687B34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A9F4-1921-4AB9-9BFF-C5D3A435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369-FF07-418F-B9BD-5AA31D2C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1788-E1DC-41B1-B891-D8B957DC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D6B-38EC-4783-84E4-4061F7C7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4923-8277-4448-BE98-AF09829C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003E-D44D-499B-A9FF-9C1F6D104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= any disintegrated surfac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or arti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rocks, minerals, vegetation and animal m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includes manufactured goods such as glass, paint chips, asphalt, brick or cinder fra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materials my impart soil with characteristics unique to a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9400" y="0"/>
            <a:ext cx="19922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r more elements can combine to form a comp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ound has different physical and chemical properties than its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Mx5JJWI2a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581280" y="3581280"/>
            <a:ext cx="1919520" cy="13701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8080" y="3581280"/>
            <a:ext cx="19195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mp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s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in a compound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 by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than 6 million identified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81480" y="1447920"/>
            <a:ext cx="2843280" cy="1152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1919520" cy="1919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019920" y="3886200"/>
            <a:ext cx="16542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ification of Mat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hange state change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1280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1371600"/>
            <a:ext cx="1755720" cy="14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943600" y="2057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soil valuable physical evid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lence at crime sc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ability between scene and su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my provi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sociative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nking a suspect or object to a crime sc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 in not a definitive test. 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685800"/>
            <a:ext cx="1865520" cy="16700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809880" y="4876920"/>
            <a:ext cx="2440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soils from different locations yield similar density distrib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oils can be differentiated and distinguished by gross appearance in a side by side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 1100 distinguishable soil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roscopic analysis, # compa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ints and frequency of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96080" y="4191120"/>
            <a:ext cx="113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ltimate value of soil evid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ity gradients are useful for comparisons when us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with other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imate value of soil depends on its variations at the crime scene; every 10 to 100 yard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703920" y="1295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00800" y="4343400"/>
            <a:ext cx="17352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on of Soi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are collected at regular intervals within 100 yard radius of crime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collected at alibi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are representative of soil removed from suspect; top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ablespoon is all that’s required for a comparativ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aged and labeled in individual plastic v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86400" y="5410080"/>
            <a:ext cx="182232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zing Chemical Properties of Ev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s: fundamental buil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s of all substances; matter’s simplest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 naturally occurring elem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d on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lements has a one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letter symbol, first letter is capitalized, second letter is low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is classified as organic or inorg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24480" y="2743200"/>
            <a:ext cx="2559240" cy="1833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705720" y="76212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odic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"/>
          <p:cNvSpPr/>
          <p:nvPr/>
        </p:nvSpPr>
        <p:spPr>
          <a:xfrm>
            <a:off x="8686800" y="720576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A5CA-23CF-4EDC-B186-F3B29F2A4065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27560" y="621504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1"/>
          <p:cNvSpPr/>
          <p:nvPr/>
        </p:nvSpPr>
        <p:spPr>
          <a:xfrm>
            <a:off x="8686800" y="6553080"/>
            <a:ext cx="457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1CB-8AAE-4D0F-BDDD-C82208CF7674}" type="slidenum">
              <a:rPr b="0" lang="en-US" sz="1200" spc="-1" strike="noStrike">
                <a:solidFill>
                  <a:srgbClr val="6666ff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527560" y="556272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Figure 5–1  The periodic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_x000e_fg05_00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685800" y="1447920"/>
            <a:ext cx="7848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versus 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: contains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organic: does not contain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553080" y="1371600"/>
            <a:ext cx="2184480" cy="1903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5588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d on periodic table in a systematic way; elements with similar chemical properties are in groups (= colum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st particle of an element =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867280" y="3886200"/>
            <a:ext cx="23400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2-04-17T16:34:04Z</dcterms:modified>
  <cp:revision>26</cp:revision>
  <dc:subject/>
  <dc:title>Soil Evidence</dc:title>
</cp:coreProperties>
</file>