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94B4-0E75-441C-BB54-5BB53099B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604C-ED32-494B-9187-2585D5CAA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D2C1-8F84-47CF-B1A4-C5A556687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1B4A-EF35-4590-9399-9F49CA07D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663A-947F-4149-A5D6-554200478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0479-52DC-4650-A291-326D6D218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0EB1-653C-416B-8673-77074F52D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8D56-9F1A-4847-A50B-676A314B1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0D0E-B6C0-4299-9E53-3A6306225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1D2C-E0B1-4A4C-9846-4EB38A62D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1C8C-9660-4D85-8353-00D1604C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578B-1BD4-4909-9751-9E8C5BDC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87974-E923-4809-9A11-09C9D1EFDD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114 Exam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s 1, 4, 5 and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guide = chapter summar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-class activities, assignments, class discussion topics, PowerPoint sl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s (theory, procedure, data, calculations, ques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943600" y="4419720"/>
            <a:ext cx="2455920" cy="1782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905120" y="4952880"/>
            <a:ext cx="1788840" cy="1641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324480" y="1371600"/>
            <a:ext cx="1817640" cy="7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0T16:04:41Z</dcterms:created>
  <dc:creator>LCC Department</dc:creator>
  <dc:description/>
  <dc:language>en-US</dc:language>
  <cp:lastModifiedBy>LCC Department</cp:lastModifiedBy>
  <dcterms:modified xsi:type="dcterms:W3CDTF">2012-04-30T22:16:26Z</dcterms:modified>
  <cp:revision>2</cp:revision>
  <dc:subject/>
  <dc:title>CH114 Exam #1</dc:title>
</cp:coreProperties>
</file>