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D11-FE52-4A6B-92C8-4F466D31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109-8F1F-49CF-8BE3-FFAD9E39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550-16B6-4EDC-9DF7-C9C517A9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155-A3AD-440D-88F4-B8C6BD60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CC22-43D1-45AD-8BE3-3DFC1B655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4AE-5E50-45FB-970C-E9445B43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7F01-7070-4E9D-8C8D-82D7EDDE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AEC5-0EE3-45A3-8EEB-985154AA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3FF5-E6FA-479A-8D7F-FD084475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ACBB-CDB0-4277-A45C-8EC5F89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8D8-E138-4B63-AA33-AF711EB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53C-8428-459B-AC6A-AE7ADB8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FBF5-C2F7-412D-87BD-65AF8CF18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atomic p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ns (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positively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s (n) are not charged, found in the nucleus, have a relative mass of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s 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re negatively charged, found outside the nucleus, have a relative mass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505320" y="4800600"/>
            <a:ext cx="183348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no net charge so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#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 of each element contain a different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atomic #, it’s the whole number of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255924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ato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# = #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#n  (protons plus neutr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ic mass = weighted average.  Atoms of the same element can have a different number of neutrons = isot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topes of Hydro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tom has one prot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-1, hydrogen-2, hydroge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 name – mass 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_x000e_fg06_008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0" y="2286000"/>
            <a:ext cx="87631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 the nucleus in orb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bitals define an area in space around the nucleus where the electron is likely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rbital has a specific amount of energy = energ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ost stable form of an atom, all electrons are in the lowest possible energy levels = groun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05720" y="457200"/>
            <a:ext cx="189684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iting electr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energy moves the electrons from a lower energy state to a higher energy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gher energy level the electrons are said to be EXCI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4114800"/>
            <a:ext cx="5603760" cy="24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772400" y="2286000"/>
            <a:ext cx="747720" cy="887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162920" y="3581280"/>
            <a:ext cx="155412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16:32:48Z</dcterms:created>
  <dc:creator>LCC Department</dc:creator>
  <dc:description/>
  <dc:language>en-US</dc:language>
  <cp:lastModifiedBy>LCC Department</cp:lastModifiedBy>
  <dcterms:modified xsi:type="dcterms:W3CDTF">2012-04-30T16:24:38Z</dcterms:modified>
  <cp:revision>2</cp:revision>
  <dc:subject/>
  <dc:title>Atoms, the fundamental and smallest particle of each element</dc:title>
</cp:coreProperties>
</file>