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1.png" ContentType="image/png"/>
  <Override PartName="/ppt/media/image10.wmf" ContentType="image/x-wmf"/>
  <Override PartName="/ppt/media/image6.png" ContentType="image/png"/>
  <Override PartName="/ppt/media/image5.wmf" ContentType="image/x-wmf"/>
  <Override PartName="/ppt/media/image4.png" ContentType="image/png"/>
  <Override PartName="/ppt/media/image27.png" ContentType="image/png"/>
  <Override PartName="/ppt/media/image3.wmf" ContentType="image/x-wmf"/>
  <Override PartName="/ppt/media/image26.wmf" ContentType="image/x-wmf"/>
  <Override PartName="/ppt/media/image23.png" ContentType="image/png"/>
  <Override PartName="/ppt/media/image22.jpeg" ContentType="image/jpeg"/>
  <Override PartName="/ppt/media/image2.wmf" ContentType="image/x-wmf"/>
  <Override PartName="/ppt/media/image25.wmf" ContentType="image/x-wmf"/>
  <Override PartName="/ppt/media/image21.jpeg" ContentType="image/jpeg"/>
  <Override PartName="/ppt/media/image20.wmf" ContentType="image/x-wmf"/>
  <Override PartName="/ppt/media/image19.wmf" ContentType="image/x-wmf"/>
  <Override PartName="/ppt/media/image15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6796-1298-496E-9531-C67596FB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1D9F-0793-499E-B747-DC92E857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711B-0632-4703-BBE2-50589C4B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4733-4F22-487A-BC4A-E9E904E2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8A1D-DA65-4618-A5AF-DDCA864A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F20D-4FAC-4D81-9F83-E737E28D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34E1-641D-4661-804A-354835BA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31CE-1309-4CB1-B883-1B3D6FC0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6B99-740D-4B3E-82EB-F4C1ED2C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DED0-9B92-4B6E-89E9-60799F11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56E5-D98C-4D97-90A0-95DCBF72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2FCB-F2F7-448D-9C72-1378380C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359F-A6A7-438C-A60F-08C52942D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organic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3733920"/>
            <a:ext cx="1862280" cy="1876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62520" y="4800600"/>
            <a:ext cx="919080" cy="928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38080" y="990720"/>
            <a:ext cx="3038760" cy="954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791320" y="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010280" y="2286000"/>
            <a:ext cx="1827360" cy="1111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04920" y="2133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629400" y="3048120"/>
            <a:ext cx="2208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organic Analysis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on Activat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men is bombarded with neutrons and resulting gamma ray radioactivity is meas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ndestructive method for identifying and quantitating trace elements down to 1 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to 30 elements can be analyzed simultane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_x000e_fg06_00900.jpg                                                 0002956B_x000c_Macintosh HD                   ABA78158:"/>
          <p:cNvPicPr/>
          <p:nvPr/>
        </p:nvPicPr>
        <p:blipFill>
          <a:blip r:embed="rId1"/>
          <a:stretch/>
        </p:blipFill>
        <p:spPr>
          <a:xfrm>
            <a:off x="1828800" y="2819520"/>
            <a:ext cx="4753080" cy="19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tron Activation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regulatory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phisticated analyzers are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 crime labs have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19920" y="35812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676520" y="4495680"/>
            <a:ext cx="29289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eam of x-rays is aimed at a crys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studying how the X-rays interact with the atoms in the substance an identification can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ance must be solid and crystalline of which 95% of inorganic substance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compound produces a unique diffractio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934320" y="5334120"/>
            <a:ext cx="1825560" cy="1368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5800" y="0"/>
            <a:ext cx="3649680" cy="1682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086600" y="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-ra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ed specimen X-ray pattern can be compared to known X-ray pattern for a quick and specific identity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6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ray diffraction does lack sensitivity so it works well for major components but not trace elements (present at &lt;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_x000e_fg06_01000.jpg                                                 0002956B_x000c_Macintosh HD                   ABA78158:"/>
          <p:cNvPicPr/>
          <p:nvPr/>
        </p:nvPicPr>
        <p:blipFill>
          <a:blip r:embed="rId1"/>
          <a:stretch/>
        </p:blipFill>
        <p:spPr>
          <a:xfrm>
            <a:off x="3886200" y="380880"/>
            <a:ext cx="472608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orga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arbon containing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manufactured goods contain small quantities of elements present in concentrations of less than 1% =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2558880" cy="1827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8120" y="4495680"/>
            <a:ext cx="2558880" cy="1827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172200" y="304920"/>
            <a:ext cx="255888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Invisibl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establish the source of the material or at least more points for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selectively absorb and emit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71600" y="3733920"/>
            <a:ext cx="477216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ission spectro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emitted from an element sour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passed through a prism, it separates into component colors or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emission spectrum or line spectrum is a finger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_x000e_fg06_00200.jpg                                                 0002956B_x000c_Macintosh HD                   ABA78158:"/>
          <p:cNvPicPr/>
          <p:nvPr/>
        </p:nvPicPr>
        <p:blipFill>
          <a:blip r:embed="rId1"/>
          <a:stretch/>
        </p:blipFill>
        <p:spPr>
          <a:xfrm>
            <a:off x="2971800" y="3733920"/>
            <a:ext cx="5667480" cy="2531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391520" y="380880"/>
            <a:ext cx="160308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 Spectr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to an excited state, energy is added in the form of electricity or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7495920" cy="3281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086600" y="2133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10144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 spectr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sunlight we see a continuous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line spectrum, each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 definite wavelength and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705720" y="1676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0" y="3886200"/>
            <a:ext cx="44197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ic 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of atoms is vapor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rbs many of the same frequencies of light emitted when in an excited 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selective absorption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to determine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6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943600" y="44956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igin of Emission and Absorption Spect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, the fundamental and smallest particle of each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atomic partic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724280" y="2819520"/>
            <a:ext cx="421488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o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table isotopes decompose with time and emit 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types of rad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pha particles (helium atom with no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particles (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ma ray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_x000e_fg05_015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3657600" y="4343400"/>
            <a:ext cx="473544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5:14Z</dcterms:created>
  <dc:creator>LCC Department</dc:creator>
  <dc:description/>
  <dc:language>en-US</dc:language>
  <cp:lastModifiedBy>LCC Department</cp:lastModifiedBy>
  <dcterms:modified xsi:type="dcterms:W3CDTF">2012-04-30T16:24:24Z</dcterms:modified>
  <cp:revision>18</cp:revision>
  <dc:subject/>
  <dc:title>Inorganic Analysis</dc:title>
</cp:coreProperties>
</file>