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7.jpeg" ContentType="image/jpeg"/>
  <Override PartName="/ppt/media/image6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2495-D084-41BC-84FB-06922EAAC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9EFA-BD3F-4AFC-8B5F-CED9BFF87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9884-F986-44F3-A0E0-715462AEF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0701-B966-4647-9D53-6BF74050B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7E2A-0227-41B3-9B6B-485F562E8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B6F6-803C-4453-BD51-FB5E10FF3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B7DC-1628-49DE-93A7-9583471E4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D262-39C8-4F73-8150-940CA344E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6283-1F4C-4A47-A49E-04D4CEF85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EF7A-99E1-464A-979C-AF49D4572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5419-8DFE-4D43-B2C4-F84C26FBD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2E0D-AE85-4D81-A33B-5BDCEE117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783E3-2B7A-4CE1-9366-B98E132F93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ontaneous Combu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ire caused by natural heat-producing process in the presence of sufficient air and fu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ly occurs in poorly ventilated contai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don’t spontaneous combu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315200" y="2895480"/>
            <a:ext cx="123660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xidation Reactions without 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othermic oxidation reactions = EXPLO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e gaseous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osion is caused by an increase in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onation is so fast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esn’t get a chance to participate = rapid expansion of g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705720" y="1066680"/>
            <a:ext cx="1654200" cy="2227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477120" y="5283360"/>
            <a:ext cx="2065320" cy="15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Explos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ified by speed of deto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1000 m/s high-velocity, deto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1000 m/s low-velocity, defla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onation = supersonic shock wave is created, rapid oxidation, chemical bonds break apart, more heat and gases build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lagration = burning, rapid oxidation, low-intensity pressure w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55720" cy="1635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81920" y="533520"/>
            <a:ext cx="2062080" cy="27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tecting and Analyzing Explos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priate samples must be coll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tonated residues from crater or objects near ori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on mobility spectrometer (IMS) is used in the field; screens for the presence of resid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are verified through confirmatory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553080" y="5181480"/>
            <a:ext cx="1959120" cy="15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 at the l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scopic examination, debris is rinsed with acetone to remove residues from debris, extract is concentrated, analyzed with color spot tests, TLC, HPLC and GC/mass spe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rmatory tests: IR, x-ray diff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_x000e_fg05_00800.jpg                                                 0002955C_x000c_Macintosh HD                   ABA78158:"/>
          <p:cNvPicPr/>
          <p:nvPr/>
        </p:nvPicPr>
        <p:blipFill>
          <a:blip r:embed="rId1"/>
          <a:stretch/>
        </p:blipFill>
        <p:spPr>
          <a:xfrm>
            <a:off x="5486400" y="1295280"/>
            <a:ext cx="2376360" cy="2221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_x000e_fg05_00500.jpg                                                 0002955C_x000c_Macintosh HD                   ABA78158:"/>
          <p:cNvPicPr/>
          <p:nvPr/>
        </p:nvPicPr>
        <p:blipFill>
          <a:blip r:embed="rId2"/>
          <a:stretch/>
        </p:blipFill>
        <p:spPr>
          <a:xfrm>
            <a:off x="5029200" y="3886200"/>
            <a:ext cx="353700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on Explos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nitrotoluene (T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lorate (Cl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trate (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troglycer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952880" y="1143000"/>
            <a:ext cx="2057400" cy="22575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Picture of nitroglycerine"/>
          <p:cNvPicPr/>
          <p:nvPr/>
        </p:nvPicPr>
        <p:blipFill>
          <a:blip r:embed="rId2"/>
          <a:stretch/>
        </p:blipFill>
        <p:spPr>
          <a:xfrm>
            <a:off x="4191120" y="3809880"/>
            <a:ext cx="2962080" cy="25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5T16:34:41Z</dcterms:created>
  <dc:creator>LCC Department</dc:creator>
  <dc:description/>
  <dc:language>en-US</dc:language>
  <cp:lastModifiedBy>LCC Department</cp:lastModifiedBy>
  <dcterms:modified xsi:type="dcterms:W3CDTF">2011-05-11T15:41:13Z</dcterms:modified>
  <cp:revision>30</cp:revision>
  <dc:subject/>
  <dc:title>Arson</dc:title>
</cp:coreProperties>
</file>