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C58-D759-48CC-BD7C-9F322945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05C2-501B-49B1-B408-4833BDDD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1B9-705D-480C-9626-B3A7D72E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684D-F54E-4C3B-BC9D-C0DA16840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E5DC-30E5-4DBF-A393-1181CFF0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860E-0996-4A57-8028-2C955D8F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44F-0CC4-4967-B43A-D7E7AB54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23E2-26F2-4579-BE21-836B78B7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B521-6982-4578-8C49-64251B1B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936-5CDA-4BFC-BFF0-7F55491C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7DA-61BA-4B49-A954-EEC72944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7D4-44DF-4621-802F-81CD68CF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1909-53A6-4221-9A41-5895C8E2C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rd’s Exchange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ever two objects come into contact with one another, there is an exchange of materials between 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a cross transfer of materi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9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riminalist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3124080"/>
            <a:ext cx="248292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Types of Physical Evidence for CH 1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oleum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i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and mine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3581280"/>
            <a:ext cx="3656160" cy="2741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367000" cy="1825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200400" y="2209680"/>
            <a:ext cx="1776240" cy="16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Common Types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body fluids such as sal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2057400"/>
            <a:ext cx="2394000" cy="2085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19720" y="449568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 of Physical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ication,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physical or chemical identity of a substance with as near absolute certainty as existing analytical techniques will a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evidence share a common origin with a standard or reference s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sample collected from a suspect is compared to a sample collected from the crime sc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glass characteriz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ss sample collected from the suspect is compared to glass samples collected from the crime s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95680" y="3733920"/>
            <a:ext cx="3463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ass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s find and measure properties associating one glass fragment with another while minimizing or eliminating other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evidential value when a fragment can be individualized to on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e physical matching of crime scene and suspect glass (they fit tog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71936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the pieces don’t fit together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composition of window glass does not vary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elements have been found helpful for narrowing the origin of the g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active index and density are class characteristics; they cannot provide the sole criteria for individualizing glass to a common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15000" y="5275440"/>
            <a:ext cx="277812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refractive index and density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he analyst sufficient data to evaluate the significance of a glass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ence of comparable density and refractive index will exclude fragments originating from different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867280" y="4952880"/>
            <a:ext cx="209880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11:10Z</dcterms:created>
  <dc:creator>LCC Department</dc:creator>
  <dc:description/>
  <dc:language>en-US</dc:language>
  <cp:lastModifiedBy>LCC Department</cp:lastModifiedBy>
  <dcterms:modified xsi:type="dcterms:W3CDTF">2011-04-06T16:39:26Z</dcterms:modified>
  <cp:revision>7</cp:revision>
  <dc:subject/>
  <dc:title>Locard’s Exchange Principle</dc:title>
</cp:coreProperties>
</file>