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5.wmf" ContentType="image/x-wmf"/>
  <Override PartName="/ppt/media/image4.png" ContentType="image/png"/>
  <Override PartName="/ppt/media/image27.png" ContentType="image/png"/>
  <Override PartName="/ppt/media/image3.wmf" ContentType="image/x-wmf"/>
  <Override PartName="/ppt/media/image26.wmf" ContentType="image/x-wmf"/>
  <Override PartName="/ppt/media/image23.png" ContentType="image/png"/>
  <Override PartName="/ppt/media/image22.jpeg" ContentType="image/jpeg"/>
  <Override PartName="/ppt/media/image2.wmf" ContentType="image/x-wmf"/>
  <Override PartName="/ppt/media/image25.wmf" ContentType="image/x-wmf"/>
  <Override PartName="/ppt/media/image21.jpeg" ContentType="image/jpeg"/>
  <Override PartName="/ppt/media/image20.wmf" ContentType="image/x-wmf"/>
  <Override PartName="/ppt/media/image19.wmf" ContentType="image/x-wmf"/>
  <Override PartName="/ppt/media/image15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7B4-13FC-4D84-B8E6-8B4716D6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586-EF81-4C90-94C8-C94CF10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746-B1C4-49E7-814D-23AA39BD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5A1-F44B-47A5-8501-F770005CE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C9C-988E-4E54-A3AA-4C1F87BB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D56E-668B-4659-B3CA-896D5EB5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7CF-FF1F-4909-9B45-6A72BF40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15D2-0BB1-4641-A3C1-97635A3F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278-03CE-4756-9447-969BEC3E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8A5-A4A1-446E-B31C-8D7CEBDE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73C-6D9B-4468-BBD9-5BD59C11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2D2-63EA-40F0-A4A0-B722774D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7EE-A0D5-4522-AC24-C9CE39DD2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1862280" cy="1876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62520" y="4800600"/>
            <a:ext cx="919080" cy="9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990720"/>
            <a:ext cx="3038760" cy="95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9132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010280" y="2286000"/>
            <a:ext cx="1827360" cy="1111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9400" y="3048120"/>
            <a:ext cx="2208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 Analysis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men is bombarded with neutrons and resulting gamma ray radioactivity is meas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ndestructive method for identifying and quantitating trace elements down to 1 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to 30 elements can be analyzed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_x000e_fg06_009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1828800" y="2819520"/>
            <a:ext cx="475308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tron Activation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regulator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sticated analyzer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 crime labs have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76520" y="4495680"/>
            <a:ext cx="2928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eam of x-rays is aimed at a cry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studying how the X-rays interact with the atoms in the substance an identification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ance must be solid and crystalline of which 95% of inorganic substanc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compound produces a unique diffra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934320" y="5334120"/>
            <a:ext cx="1825560" cy="136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3649680" cy="168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-ra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ed specimen X-ray pattern can be compared to known X-ray pattern for a quick and specific identity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ray diffraction does lack sensitivity so it works well for major components but not trace elements (present at &lt;5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_x000e_fg06_010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3886200" y="380880"/>
            <a:ext cx="472608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organ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arbon containing sub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anufactured goods contain small quantities of elements present in concentrations of less than 1% =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2558880" cy="182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8120" y="4495680"/>
            <a:ext cx="2558880" cy="1827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172200" y="304920"/>
            <a:ext cx="255888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visibl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establish the source of the material or at least more points for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s selectively absorb and emi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3733920"/>
            <a:ext cx="47721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ission spectr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emitted from an element sour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assed through a prism, it separates into component colors or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emission spectrum or line spectrum is a finger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06_00200.jpg                                                 0002956B_x000c_Macintosh HD                   ABA78158:"/>
          <p:cNvPicPr/>
          <p:nvPr/>
        </p:nvPicPr>
        <p:blipFill>
          <a:blip r:embed="rId1"/>
          <a:stretch/>
        </p:blipFill>
        <p:spPr>
          <a:xfrm>
            <a:off x="2971800" y="3733920"/>
            <a:ext cx="5667480" cy="2531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391520" y="380880"/>
            <a:ext cx="16030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o an excited state, energy is added in the form of electricity or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7495920" cy="3281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866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1014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 spectr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unlight we see a continuous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line spectrum, each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 definite wavelength and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0" y="3886200"/>
            <a:ext cx="441972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of atoms is vapor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rbs many of the same frequencies of light emitted when in an excited 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selective absorption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determine concen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6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44956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igin of Emission and Absorption Spect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oms, the fundamental and smallest particle of each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atomic partic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tr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724280" y="2819520"/>
            <a:ext cx="4214880" cy="37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able isotopes decompose with time and emit ra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ypes of rad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pha particles (helium atom with no 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particles (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ma r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_x000e_fg05_015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3657600" y="4343400"/>
            <a:ext cx="473544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5:14Z</dcterms:created>
  <dc:creator>LCC Department</dc:creator>
  <dc:description/>
  <dc:language>en-US</dc:language>
  <cp:lastModifiedBy>LCC Department</cp:lastModifiedBy>
  <dcterms:modified xsi:type="dcterms:W3CDTF">2012-04-30T16:24:24Z</dcterms:modified>
  <cp:revision>18</cp:revision>
  <dc:subject/>
  <dc:title>Inorganic Analysis</dc:title>
</cp:coreProperties>
</file>