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2C08E-05F3-49FD-8BDC-A72D2B6DD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99B1E-9281-4B59-A4BB-D1D0B4CA2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DF6CF-21D1-4DC0-AE51-240A6F2EB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DB9D2-249F-46B2-9BCD-E70957D4B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90925-A2F2-4257-8A93-8992BEE2D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71122-D87D-4B98-90CE-DC73D44BD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F8915-3946-4B4B-86C8-8569BD7F0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F63AD-1F77-4078-8BAE-74674C7EA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99762-EB08-4931-9710-59392F215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12866-508D-422B-84B3-F61C924C7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661B5-3F39-467B-823D-37CE7C1D2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4B6AB-C719-4B32-84EA-05BFBF108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AE2D8-4AE2-4A6F-9F17-AC7CBB6530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114 Exam #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pters 1, 4, 5 and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y guide = chapter summari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-class activities, assignments, class discussion topics, PowerPoint sli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s (theory, procedure, data, calculations, question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943600" y="4419720"/>
            <a:ext cx="2455920" cy="17827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1905120" y="4952880"/>
            <a:ext cx="1788840" cy="16416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6324480" y="1371600"/>
            <a:ext cx="1817640" cy="74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0T16:04:41Z</dcterms:created>
  <dc:creator>LCC Department</dc:creator>
  <dc:description/>
  <dc:language>en-US</dc:language>
  <cp:lastModifiedBy>LCC Department</cp:lastModifiedBy>
  <dcterms:modified xsi:type="dcterms:W3CDTF">2012-04-30T22:16:26Z</dcterms:modified>
  <cp:revision>2</cp:revision>
  <dc:subject/>
  <dc:title>CH114 Exam #1</dc:title>
</cp:coreProperties>
</file>