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67DD-111C-40DC-A076-7FBECE3A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D9E-A8BD-4C69-A111-DE9EB9B1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F813-CC66-4051-B37B-A458A185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320-2DC9-419E-A662-3DE56A3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2C1-E259-4F06-A0BA-45851FEB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15D-B20D-42E9-98F4-39BC588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1AF8-C0AE-45E2-9DB2-6DCA51B1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AA3-8775-4641-B954-8BB84E3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09C-E05D-4191-9038-1E6E2650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0BE-008A-46F6-8355-877B9034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537-46AA-4A64-BF98-A4B5D5E9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C59-311C-45B8-806B-82AC1B15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9581-CFD3-4BE0-B2F3-1B6B22B48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ious Exam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efly explain the purpose of a standard or reference sample. Give an example and include where the reference or standard would be collected from and how the sample would be used by a forensic scientis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05520" y="4572000"/>
            <a:ext cx="1827000" cy="182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3880" y="480060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earn full credi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purpose of a standard or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where the reference or standard would be collected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he sample would be used by a forensic 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629400" y="4838760"/>
            <a:ext cx="2514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K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.  A pure, known sample of a drug or a piece of glass collected from a broken window at a crime scene would b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543800" y="304920"/>
            <a:ext cx="13748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andard or reference sample is a pure sample of known identity. It provides the forensic scientist a “known” for comparison of other samples collected from the suspect or crim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ure, known sample of a drug or a piece of gl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43800" y="5067360"/>
            <a:ext cx="142416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int Break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ed from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lected from a broken window at a crime sce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 scientist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es other samples collected from the suspect or crime scene to referenc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24480" y="4572000"/>
            <a:ext cx="156708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6:25:32Z</dcterms:created>
  <dc:creator>LCC Department</dc:creator>
  <dc:description/>
  <dc:language>en-US</dc:language>
  <cp:lastModifiedBy>LCC Department</cp:lastModifiedBy>
  <dcterms:modified xsi:type="dcterms:W3CDTF">2012-05-02T16:31:30Z</dcterms:modified>
  <cp:revision>2</cp:revision>
  <dc:subject/>
  <dc:title>Previous Exam Question</dc:title>
</cp:coreProperties>
</file>