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25F4-5F04-4F63-AB47-53296CEB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17F-0113-462E-8B0F-CB09530E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ED1-78E5-4F05-BC70-F051806DF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76E-BCCE-46BF-B2EC-73C634EF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3F72-A0D6-4D02-91E9-3D1DE86E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E84-44FD-4D5E-97D3-CFA6DE7D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647-6AB6-43AE-857B-849CD791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A0F4-F78A-4F13-AC1C-F32494AC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1A87-0E02-404F-AA78-F9CF5494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1B06-BB4F-408B-B66C-0BED03FE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FA6F-7476-40CD-A27A-6F10C81D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84B-51BD-4D3F-92A5-94228224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5291-37C1-46F7-8EAD-45478C8A7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114 Exa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1, 4, 5 a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guide = chapter summa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activities, assignments, class discussion topics, PowerPoint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s (theory, procedure, data, calculations, qu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45592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4952880"/>
            <a:ext cx="1788840" cy="164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18176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6:04:41Z</dcterms:created>
  <dc:creator>LCC Department</dc:creator>
  <dc:description/>
  <dc:language>en-US</dc:language>
  <cp:lastModifiedBy>LCC Department</cp:lastModifiedBy>
  <dcterms:modified xsi:type="dcterms:W3CDTF">2012-04-30T22:16:26Z</dcterms:modified>
  <cp:revision>2</cp:revision>
  <dc:subject/>
  <dc:title>CH114 Exam #1</dc:title>
</cp:coreProperties>
</file>