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30E-F5C9-4100-8C7C-C55E1D52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C9D-FB8C-42D8-B476-C4F53CFA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A95-D296-4F10-967B-3DCA893A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A61-7020-4032-9F29-113B6518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51E-2494-4DAF-8181-B92C861F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855-F2CC-4AFD-BCE0-7CA52729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7B4-0907-478A-A58F-09B7F139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F5A-020B-4855-A60E-0C10CFA9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B1A-9520-4056-9196-27575DF1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7FD-C154-4C9F-9F4C-FB3B1FF3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FA4-85A1-40FE-95FA-E98F1388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C69-41BE-4F2F-97FA-B9E3536C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00E8-D397-4D1E-AA68-0A2B852F9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wo objects come into contact with one another, there is an exchange of materials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cross transfer of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minal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4829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Physical Evidence for CH 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67000" cy="182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762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on Types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ody fluids such as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94000" cy="20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ication,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hysical or chemical identity of a substance with as near absolute certainty as existing analytical techniques will 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vidence share a common origin with a standard or reference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sample collected from a suspect is compared to a sample collected from the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characteriz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 sample collected from the suspect is compared to glass samples collected from the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463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s find and measure properties associating one glass fragment with another while minimizing or eliminating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vidential value when a fragment can be individualized to on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e physical matching of crime scene and suspect glass (they fit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193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pieces don’t fit toge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sition of window glass does not va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lements have been found helpful for narrowing the origin of the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 and density are class characteristics; they cannot provide the sole criteria for individualizing glass to a comm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5275440"/>
            <a:ext cx="2778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refractive index and density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analyst sufficient data to evaluate the significance of a glass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ence of comparable density and refractive index will exclude fragments originating from different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09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11:10Z</dcterms:created>
  <dc:creator>LCC Department</dc:creator>
  <dc:description/>
  <dc:language>en-US</dc:language>
  <cp:lastModifiedBy>LCC Department</cp:lastModifiedBy>
  <dcterms:modified xsi:type="dcterms:W3CDTF">2011-04-06T16:39:26Z</dcterms:modified>
  <cp:revision>7</cp:revision>
  <dc:subject/>
  <dc:title>Locard’s Exchange Principle</dc:title>
</cp:coreProperties>
</file>