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A93-B02C-43BB-8ADF-33CC8F3B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335-92BC-4240-8477-5564B19D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47B-B45E-4F09-9550-7086BAB3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41B-A7E1-4A2B-95F8-0DE23BED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95E-AC89-44E0-BD36-56BF43EF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A23-EA62-4102-9899-EA6A0818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448-7E20-417D-B409-AFEC886C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0DE-9B90-4E92-A2AE-3E016EFE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763-8EB4-4A50-9698-F40E5ADA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F638-1466-4F4B-8869-07311926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55DC-4739-4C56-8B77-74CD7F4C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640-1AC9-4F23-A6DE-4475878F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4AB7-8227-4D41-8670-3E8983631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114 Exa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, 4, 5 a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uide = chapter summa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activities, assignments, class discussion topics, PowerPoint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 (theory, procedure, data, calculations,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45592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4952880"/>
            <a:ext cx="1788840" cy="164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18176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6:04:41Z</dcterms:created>
  <dc:creator>LCC Department</dc:creator>
  <dc:description/>
  <dc:language>en-US</dc:language>
  <cp:lastModifiedBy>LCC Department</cp:lastModifiedBy>
  <dcterms:modified xsi:type="dcterms:W3CDTF">2012-04-30T22:16:26Z</dcterms:modified>
  <cp:revision>2</cp:revision>
  <dc:subject/>
  <dc:title>CH114 Exam #1</dc:title>
</cp:coreProperties>
</file>