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0BBEC-933F-4C02-84AB-52C9BAEA5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091BB-A29C-4C4F-AA6B-C5BE390C0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D243F-D95F-443A-93D6-541538D99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59CB3-0E50-429B-BD19-922F364C3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1E685-BE96-4456-9CA1-E06E570A1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4B4A2-B019-4E36-8BE3-D3033079D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F7AA4-135D-4A3C-A262-5BFCE3C50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4546-926B-4631-85EF-1F87D0F0F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EE5C5-9DBD-4D32-97E8-421EF8B2E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04E9B-D17A-480F-8BFC-9BAA4E4A8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F284-1294-46E1-872F-4AA1A4969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FE2DB-33CB-4F5A-9734-9BE70A2BB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0C86-27A4-4122-AD54-2CD34BB4F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reme Court of Arkansas versus Andre Peter Dun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convicted of first degree murder, sentenced to life in pri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versal, Dunn argued among other points that the circuit court erred when it allowed into evidence the results of luminol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Nov. 23, 2003, Dunn placed a 911 call claiming to find his girlfriend dead in her apartment, officers responded and were met outside the apartment by Dun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used a drop of blood found of the faucet knob (confirmed to be Creer’s) to justify the usage of other unconfirmed lumino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confirmation of human blood on the faucet does not prove the substances found in other areas of the bathroom were blood, human or other k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rguments by Dun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inol results gave the impression that a cleanup occurred which is highly prejudicial, making the evidence confusing and misleading the 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previous deci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it is an error to admit evidence of luminol testing where no follow-up testing is done to establish that the substance causing the luminol reaction is in fact human blood related to the alleged cr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Dunn’s case howev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Dunn washed his hands at the bathroom sink and luminol testing was conducted within two feet of the s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mony revealed that blood belonging to Creer was identified in the immediate vicinity where the luminol testing wa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s testimony that he washed Creer’s blood from his hands after touching her body connects the blood evidence directly to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concluded that adequate follow-up testing was conducted so the circuit court did not err in denying the motion to exclude the luminol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tai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old the officers he used his key to enter the apartment and found Creer’s body on the c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covered her body with a comf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officers entered the apartment they observed what appeared to be blood stains on the wall near the couch as well as a large amount of blood on Creer’s thro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not considered a suspec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apart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 agreed to go to the station to speak to a de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artment was searched, blood spatter was observed on the walls, ceiling and couch, photographs of the body were taken, officers dusted for fingerprints, took blood samples and gathered other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s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claimed to have last seen Creer on a Friday evening and that he left the apartment after an argument, he returned to the apartment on Sunday after trying to call her over the week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asked to provide his fingerprints for purposes of el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admitted to finding Creer’s body on Friday night, also that he touched the body and washed his hands in the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wh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arch warrant was obtained and luminol used the following day to detect the presence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testing in the bathroom showed the presence of blood on the floor, in the sink, on the wall behind the sink and in the batht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 of Dea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Medical Examiner testified that blunt-force and sharp-force injuries were the cause of death, he determined that the manner of death was homi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evidence tying him to the crime; no fingerprints were found in the sink, no DNA evidence connected him to the crim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it court erred when it allowed the results of the luminol testing into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filed a motion to suppress the lumino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 prior deci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kansas Supreme Court ruled that it was “a reversible error to admit evidence of luminol testing showing positive results for blood without also admitting evidence to follow-up tests confirming the presence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rial Testimony was given th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showed blood on the bathtub plug lever, soap dish on the wall, bath tub wall, floor in front of the sink and towards the tub, the sink, the wall behind the sink and the faucet knob and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testing on blood samples from the victim, her shirt, the comforter covering her body, a faucet knob all came from C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46:30Z</dcterms:created>
  <dc:creator>LCC Department</dc:creator>
  <dc:description/>
  <dc:language>en-US</dc:language>
  <cp:lastModifiedBy>LCC Department</cp:lastModifiedBy>
  <dcterms:modified xsi:type="dcterms:W3CDTF">2011-05-18T15:41:10Z</dcterms:modified>
  <cp:revision>28</cp:revision>
  <dc:subject/>
  <dc:title>Forensic Serology</dc:title>
</cp:coreProperties>
</file>