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wmf" ContentType="image/x-wmf"/>
  <Override PartName="/ppt/media/image26.wmf" ContentType="image/x-wmf"/>
  <Override PartName="/ppt/media/image23.png" ContentType="image/png"/>
  <Override PartName="/ppt/media/image22.jpeg" ContentType="image/jpeg"/>
  <Override PartName="/ppt/media/image2.wmf" ContentType="image/x-wmf"/>
  <Override PartName="/ppt/media/image25.wmf" ContentType="image/x-wmf"/>
  <Override PartName="/ppt/media/image21.jpeg" ContentType="image/jpeg"/>
  <Override PartName="/ppt/media/image20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D941-49F9-42CF-8FE9-F91BE2C3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212-6908-4379-B3D5-77E29C4A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ACE-A161-41F2-AC01-405D5DA1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03BA-A633-439F-AA99-97C9FD0C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B76-C77F-427A-88AE-A4B44BC6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2BC-B101-4276-98DC-6D80F5A0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1093-EDBF-4901-A790-1A200948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88CC-9020-4DBA-9D92-F5BD8B1F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3EF-B48B-4498-BCB7-28A2718E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90AC-3C3B-43EE-9BD7-E74BF7D2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3F3-C685-4E2F-9F9E-2259AAA2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1489-6415-4FB2-9378-73C74135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4FC9-7C4B-4A90-9AC8-51EE88F31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1862280" cy="187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4800600"/>
            <a:ext cx="919080" cy="9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303876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10280" y="2286000"/>
            <a:ext cx="1827360" cy="1111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9400" y="3048120"/>
            <a:ext cx="220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men is bombarded with neutrons and resulting gamma ray radioactivity i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destructive method for identifying and quantitating trace elements down to 1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to 30 elements can be analyzed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_x000e_fg06_009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2819520"/>
            <a:ext cx="475308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gulator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histicated analyzer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crime labs hav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2928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m of x-rays is aimed at a 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udying how the X-rays interact with the atoms in the substance an identification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e must be solid and crystalline of which 95% of inorganic substanc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ompound produces a unique diffra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5334120"/>
            <a:ext cx="182556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3649680" cy="168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ed specimen X-ray pattern can be compared to known X-ray pattern for a quick and specific identity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does lack sensitivity so it works well for major components but not trace elements (present at &lt;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_x000e_fg06_010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3886200" y="380880"/>
            <a:ext cx="47260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arbon containing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anufactured goods contain small quantities of elements present in concentrations of less than 1% =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558880" cy="182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visibl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stablish the source of the material or at least more points for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selectively absorb and emi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47721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on spectr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mitted from an element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sed through a prism, it separates into component colors or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mission spectrum or line spectrum is a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06_002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2971800" y="3733920"/>
            <a:ext cx="5667480" cy="253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60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an excited state, energy is added in the form of electricity or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495920" cy="3281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01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unlight we see a continuous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ine spectrum, each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definite wavelength and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419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of atoms is vapor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s many of the same frequencies of light emitted when in an excited 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elective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rmin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igin of Emission and Absorption Spec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sotopes decompose with time and emit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 of rad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particles (helium atom with no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particle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 r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657600" y="4343400"/>
            <a:ext cx="47354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5:14Z</dcterms:created>
  <dc:creator>LCC Department</dc:creator>
  <dc:description/>
  <dc:language>en-US</dc:language>
  <cp:lastModifiedBy>LCC Department</cp:lastModifiedBy>
  <dcterms:modified xsi:type="dcterms:W3CDTF">2012-04-30T16:24:24Z</dcterms:modified>
  <cp:revision>18</cp:revision>
  <dc:subject/>
  <dc:title>Inorganic Analysis</dc:title>
</cp:coreProperties>
</file>