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3.wmf" ContentType="image/x-wmf"/>
  <Override PartName="/ppt/media/image26.wmf" ContentType="image/x-wmf"/>
  <Override PartName="/ppt/media/image23.png" ContentType="image/png"/>
  <Override PartName="/ppt/media/image22.jpeg" ContentType="image/jpeg"/>
  <Override PartName="/ppt/media/image2.wmf" ContentType="image/x-wmf"/>
  <Override PartName="/ppt/media/image25.wmf" ContentType="image/x-wmf"/>
  <Override PartName="/ppt/media/image21.jpeg" ContentType="image/jpeg"/>
  <Override PartName="/ppt/media/image20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1B5-684B-48B9-AC08-2F56A770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F97-09C9-4C7D-9EF4-3ACD67E3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CAC-1C11-4165-8EE9-41241B10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18F-DBD9-4782-905C-74679CD9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978-8395-4E4D-A439-69C2E55D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1CAB-33FE-43E4-BC0A-79038636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60F-FEDA-492B-BA19-9CBAE1BB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E18-D388-4762-A8FF-08CBC231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2ED-F568-40A5-93EF-A6F27215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FF2-A48F-4D1E-A8F8-1913ED99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770-1930-4144-B272-240C1624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AE85-10E5-4AFC-89BB-A22696E8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3EE4-7DDC-49AE-954B-0A437FC4A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3733920"/>
            <a:ext cx="1862280" cy="1876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62520" y="4800600"/>
            <a:ext cx="919080" cy="9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3038760" cy="95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79132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010280" y="2286000"/>
            <a:ext cx="1827360" cy="1111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0492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9400" y="3048120"/>
            <a:ext cx="2208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 Analysis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 Activat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men is bombarded with neutrons and resulting gamma ray radioactivity is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ndestructive method for identifying and quantitating trace elements down to 1 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to 30 elements can be analyzed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_x000e_fg06_009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1828800" y="2819520"/>
            <a:ext cx="475308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tron Activation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regulatory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phisticated analyzers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crime labs hav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19920" y="3581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76520" y="4495680"/>
            <a:ext cx="2928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am of x-rays is aimed at a cry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tudying how the X-rays interact with the atoms in the substance an identification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ce must be solid and crystalline of which 95% of inorganic substanc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ompound produces a unique diffra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34320" y="5334120"/>
            <a:ext cx="1825560" cy="136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3649680" cy="1682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ed specimen X-ray pattern can be compared to known X-ray pattern for a quick and specific identity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 diffraction does lack sensitivity so it works well for major components but not trace elements (present at &lt;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_x000e_fg06_010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3886200" y="380880"/>
            <a:ext cx="472608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arbon containing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anufactured goods contain small quantities of elements present in concentrations of less than 1% =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2558880" cy="182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2558880" cy="182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172200" y="304920"/>
            <a:ext cx="2558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nvisibl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establish the source of the material or at least more points for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selectively absorb and emi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3733920"/>
            <a:ext cx="477216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on spectr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emitted from an element 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assed through a prism, it separates into component colors or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emission spectrum or line spectrum is a finger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_x000e_fg06_002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2971800" y="3733920"/>
            <a:ext cx="5667480" cy="2531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391520" y="380880"/>
            <a:ext cx="16030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o an excited state, energy is added in the form of electricity or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7495920" cy="3281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866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1014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unlight we see a continuous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ine spectrum, each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definite wavelength and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0" y="3886200"/>
            <a:ext cx="44197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of atoms is vapor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bs many of the same frequencies of light emitted when in an excited 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selective absorption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 determine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4495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igin of Emission and Absorption Spec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, the fundamental and smallest particle of each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tomic p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214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isotopes decompose with time and emit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ypes of rad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particles (helium atom with no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particles 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ma ra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3657600" y="4343400"/>
            <a:ext cx="47354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5:14Z</dcterms:created>
  <dc:creator>LCC Department</dc:creator>
  <dc:description/>
  <dc:language>en-US</dc:language>
  <cp:lastModifiedBy>LCC Department</cp:lastModifiedBy>
  <dcterms:modified xsi:type="dcterms:W3CDTF">2012-04-30T16:24:24Z</dcterms:modified>
  <cp:revision>18</cp:revision>
  <dc:subject/>
  <dc:title>Inorganic Analysis</dc:title>
</cp:coreProperties>
</file>