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0312-D34D-4D84-A92C-02B75236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BB98-BDB9-47E5-BFE3-B395A280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C56-76C6-4F0F-A500-B6E880E3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BEF-D9FD-4A0D-942B-6620A558D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F1E-5B63-48E3-8EC4-89514AC0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CD1-B480-4F53-AFCE-25346E70E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481-1BFF-4A2F-805B-867CDBF9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7E07-D6EE-428A-89F8-32CA241E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57E-362B-436D-9530-23CDFA76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3C1-2ED6-4F35-BCA3-954B0EA6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87B-8282-40EC-BA71-48FD3F8D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3E0-9F3C-4B6E-86A5-05D5F995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6F2C-03AA-4590-B957-A4353A838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taneous Combu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ire caused by natural heat-producing process in the presence of sufficient air and fu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occurs in poorly ventilated contai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don’t spontaneous combu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15200" y="2895480"/>
            <a:ext cx="123660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xidation Reactions without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hermic oxidation reactions = EXPLO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gaseous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sion is caused by an increase in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is so fast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esn’t get a chance to participate = rapid expansion of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1654200" cy="222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5283360"/>
            <a:ext cx="20653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ed by speed of det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gt;1000 m/s high-velocity, det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1000 m/s low-velocity, defla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onation = supersonic shock wave is created, rapid oxidation, chemical bonds break apart, more heat and gases buil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lagration = burning, rapid oxidation, low-intensity pressure w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5572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81920" y="533520"/>
            <a:ext cx="206208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ng and Analyzing Explos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samples must be coll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tonated residues from crater or objects near 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mobility spectrometer (IMS) is used in the field; screens for the presence of resid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re verified through confirmator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553080" y="5181480"/>
            <a:ext cx="1959120" cy="15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 at the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copic examination, debris is rinsed with acetone to remove residues from debris, extract is concentrated, analyzed with color spot tests, TLC, HPLC and GC/mass sp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rmatory tests: IR, x-ray diff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_x000e_fg05_00800.jpg                                                 0002955C_x000c_Macintosh HD                   ABA78158:"/>
          <p:cNvPicPr/>
          <p:nvPr/>
        </p:nvPicPr>
        <p:blipFill>
          <a:blip r:embed="rId1"/>
          <a:stretch/>
        </p:blipFill>
        <p:spPr>
          <a:xfrm>
            <a:off x="5486400" y="1295280"/>
            <a:ext cx="2376360" cy="2221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_x000e_fg05_00500.jpg                                                 0002955C_x000c_Macintosh HD                   ABA78158:"/>
          <p:cNvPicPr/>
          <p:nvPr/>
        </p:nvPicPr>
        <p:blipFill>
          <a:blip r:embed="rId2"/>
          <a:stretch/>
        </p:blipFill>
        <p:spPr>
          <a:xfrm>
            <a:off x="5029200" y="3886200"/>
            <a:ext cx="35370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Explos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nitrotoluene (T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ate (Cl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ate (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lyce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2057400" cy="2257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Picture of nitroglycerine"/>
          <p:cNvPicPr/>
          <p:nvPr/>
        </p:nvPicPr>
        <p:blipFill>
          <a:blip r:embed="rId2"/>
          <a:stretch/>
        </p:blipFill>
        <p:spPr>
          <a:xfrm>
            <a:off x="4191120" y="3809880"/>
            <a:ext cx="296208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6:34:41Z</dcterms:created>
  <dc:creator>LCC Department</dc:creator>
  <dc:description/>
  <dc:language>en-US</dc:language>
  <cp:lastModifiedBy>LCC Department</cp:lastModifiedBy>
  <dcterms:modified xsi:type="dcterms:W3CDTF">2011-05-11T15:41:13Z</dcterms:modified>
  <cp:revision>30</cp:revision>
  <dc:subject/>
  <dc:title>Arson</dc:title>
</cp:coreProperties>
</file>