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C9BC-19B2-4093-9A80-985F4DCD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7B1-0216-4A2D-ADAC-7026491B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769C-F8D9-4A2A-B4D2-FC9D1318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B0CD-0234-4192-959F-1EBA6150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4E60-30C7-405A-A48C-4339A432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B163-D9D3-469E-A2F9-D3629C49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865D-F19A-432D-9279-AEF24693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97D8-DA6B-41D3-A44D-2ED58453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405-A61E-4BF1-917F-C22B192E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2A8D-71EB-4D3D-892E-0AA4ECFA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938-EC7E-41CC-9021-C387E6A8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E6E-AAA4-4C30-8AA9-97D7B35D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37E3-0D8A-48BE-8E9A-BC8BBF184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rd’s Exchange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ever two objects come into contact with one another, there is an exchange of materials between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 cross transfer of mater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9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iminalis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3124080"/>
            <a:ext cx="248292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Types of Physical Evidence for CH 1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oleum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and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2367000" cy="1825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200400" y="2209680"/>
            <a:ext cx="177624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Common Types of Phys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body fluids such as sal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ger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48520" y="2057400"/>
            <a:ext cx="2394000" cy="2085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19720" y="44956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ination of Phys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ntification, 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physical or chemical identity of a substance with as near absolute certainty as existing analytical techniques will a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evidence share a common origin with a standard or reference sam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sample collected from a suspect is compared to a sample collected from the crime sc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glass characteriz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ss sample collected from the suspect is compared to glass samples collected from the crime sc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95680" y="3733920"/>
            <a:ext cx="3463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ss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 scientists find and measure properties associating one glass fragment with another while minimizing or eliminating other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evidential value when a fragment can be individualized to on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the physical matching of crime scene and suspect glass (they fit toge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71936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the pieces don’t fit togeth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composition of window glass does not vary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elements have been found helpful for narrowing the origin of the 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ctive index and density are class characteristics; they cannot provide the sole criteria for individualizing glass to a common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15000" y="5275440"/>
            <a:ext cx="27781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refractive index and density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the analyst sufficient data to evaluate the significance of a glass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sence of comparable density and refractive index will exclude fragments originating from different 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4952880"/>
            <a:ext cx="20988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11:10Z</dcterms:created>
  <dc:creator>LCC Department</dc:creator>
  <dc:description/>
  <dc:language>en-US</dc:language>
  <cp:lastModifiedBy>LCC Department</cp:lastModifiedBy>
  <dcterms:modified xsi:type="dcterms:W3CDTF">2011-04-06T16:39:26Z</dcterms:modified>
  <cp:revision>7</cp:revision>
  <dc:subject/>
  <dc:title>Locard’s Exchange Principle</dc:title>
</cp:coreProperties>
</file>