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21.jpeg" ContentType="image/jpeg"/>
  <Override PartName="/ppt/media/image16.jpeg" ContentType="image/jpeg"/>
  <Override PartName="/ppt/media/image7.png" ContentType="image/png"/>
  <Override PartName="/ppt/media/image15.wmf" ContentType="image/x-wmf"/>
  <Override PartName="/ppt/media/image18.wmf" ContentType="image/x-wmf"/>
  <Override PartName="/ppt/media/image1.png" ContentType="image/png"/>
  <Override PartName="/ppt/media/image17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9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9CAD-926D-4A8C-9CF2-DC20D176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D1A9-C629-499A-8CFA-C71E2236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B8D-E681-4D54-9D79-77229CA2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0FE-FA52-48B2-972C-A192276B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C0ED-4A68-488E-A221-FC1B4137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B9F-D079-4C83-B5B8-9BDC4713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CE0A-B632-492B-AC7A-6DA3F983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FBC9-C0DE-47FA-8BCC-108D1ADD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534B-1A63-4F87-B68E-5FF57D4D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DDB9-3425-4C52-9FD4-0A71C0BD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9095-490D-4437-BD46-FCBEB8C3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2DE-C9CF-411B-A997-AD196729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ADA6-3C5A-4DB0-90C8-270A76EB1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tical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identify or compare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echniques exist for organic or inorganic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nalysis in a forensic lab involves organic analysis (chapter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5880" y="38862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495680"/>
            <a:ext cx="1763640" cy="1806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733920" y="4495680"/>
            <a:ext cx="1538280" cy="181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270920" y="609480"/>
            <a:ext cx="18730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light is absorb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must now be described as discrete particles called pho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of a photon (E) = h *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greater the frequency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, the greater the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29200" y="4191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ophotomet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the quantity of radiation a material absorbs as a function of wavelength or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_x000e_fg05_017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2286000"/>
            <a:ext cx="7578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ant light sources for forensic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ble, infrared (IR), ultraviolet (U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s a “fingerprint” for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1143000" y="2286000"/>
            <a:ext cx="59054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 and visible spectrums are simple compared to IR spectrums, provide probable ID, TLC or GC confi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 spectrum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spectrum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5-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_x000e_fg05_01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114800" y="3200400"/>
            <a:ext cx="47433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spectr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is bombarded with high energy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ly charged ions form = 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ions are unstable, decompose to fragments, pass through an electric or magnetic field, separate based on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18144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s spectrum of heroin (top) and cocaine (botto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_x000e_fg05_021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1600200" y="1447920"/>
            <a:ext cx="61610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spectr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important tools in foren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o small concen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st use: drug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_x000e_fg05_022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304920" y="3276720"/>
            <a:ext cx="84963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 Mass Sp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 separate mixture, mass spec provides identification of mixture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carefully controlled conditions, no two substances produce the same fragmentation patt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finger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_x000e_fg05_020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038480" y="4281480"/>
            <a:ext cx="47358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 Mass spe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_x000e_fg05_020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1905120"/>
            <a:ext cx="82821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-ext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 G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 Mass sp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e of bonds in organic compounds can be easily characterized by their absorption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trophotometry: study of the absorption of light by chemical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s and identifies organic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nalyze a substance, it must be relatively p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57800" y="609480"/>
            <a:ext cx="332748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ophot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 the absorption of light by chemical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zes and identifies organic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3505320"/>
            <a:ext cx="25146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te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on passing through a prism, the light will separate into a spectrum of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1719000" cy="171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10800000">
            <a:off x="3428640" y="2971800"/>
            <a:ext cx="30351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an object appear yel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hite light passes through the object all colors are absorbed except for the yellow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yellow light is reflected by the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29200" y="3962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ure of light: 2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s a continuous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s a stream of continuous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_x000e_fg05_014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2057400" y="2209680"/>
            <a:ext cx="4737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ve nature of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length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distance between two consecutive crests or troughs of a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equency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# crests or troughs passing a given point in a unit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ts are cycles per second or Hertz (H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_x000e_fg05_014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914400" y="2743200"/>
            <a:ext cx="28335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length and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*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re c = speed of light in a vacuum = 3.00*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 wavelength increases, frequency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colors of light have different wavelengths and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467480" y="990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762120" y="2514600"/>
            <a:ext cx="733104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6:18:36Z</dcterms:created>
  <dc:creator>LCC Department</dc:creator>
  <dc:description/>
  <dc:language>en-US</dc:language>
  <cp:lastModifiedBy>LCC Department</cp:lastModifiedBy>
  <dcterms:modified xsi:type="dcterms:W3CDTF">2011-04-19T18:23:28Z</dcterms:modified>
  <cp:revision>34</cp:revision>
  <dc:subject/>
  <dc:title>Soil Evidence</dc:title>
</cp:coreProperties>
</file>