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10.wmf" ContentType="image/x-wmf"/>
  <Override PartName="/ppt/media/image5.wmf" ContentType="image/x-wmf"/>
  <Override PartName="/ppt/media/image21.png" ContentType="image/png"/>
  <Override PartName="/ppt/media/image19.png" ContentType="image/png"/>
  <Override PartName="/ppt/media/image20.wmf" ContentType="image/x-wmf"/>
  <Override PartName="/ppt/media/image18.wmf" ContentType="image/x-wmf"/>
  <Override PartName="/ppt/media/image17.png" ContentType="image/png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9.jpeg" ContentType="image/jpeg"/>
  <Override PartName="/ppt/media/image2.wmf" ContentType="image/x-wmf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6056-853A-4653-85BA-A9390481A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1B41-DCF1-49D8-85B8-2229A5871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0727-C218-4B52-8485-7B7F3B8ED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31B7-4329-4054-BE95-A2F9D1E32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3E08-B6CF-43DF-83D2-B6E99AC01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6E4B-7803-4F52-AABB-184369D62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2782-8306-4158-83CF-C0679F481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B83E-596E-435D-AFA0-8F3A431AD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2358-D9AF-4DF9-AA74-1871A892E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9CC5-CA42-45C1-B947-952C40306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B890-850C-488C-B9DE-A557256B4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121E-800A-49BF-AF73-EAFE98634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CEECF-911E-4196-A25A-7883AF0122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png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wmf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png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il Evid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il = any disintegrated surface mate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ural or artifi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des rocks, minerals, vegetation and animal mat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includes manufactured goods such as glass, paint chips, asphalt, brick or cinder frag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ce materials my impart soil with characteristics unique to a lo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629400" y="0"/>
            <a:ext cx="199224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ou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or more elements can combine to form a comp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ompound has different physical and chemical properties than its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youtube.com/watch?v=Mx5JJWI2aa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581280" y="3581280"/>
            <a:ext cx="1919520" cy="13701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838080" y="3581280"/>
            <a:ext cx="1919520" cy="13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compou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ar is 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2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2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er is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oms in a compound a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nected by bo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than 6 million identified comp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5181480" y="1447920"/>
            <a:ext cx="2843280" cy="11523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352680" y="2133720"/>
            <a:ext cx="1919520" cy="19191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6019920" y="3886200"/>
            <a:ext cx="165420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sification of Mat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qu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change state change the temper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733920" y="2971800"/>
            <a:ext cx="1612800" cy="18288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2666880" y="1371600"/>
            <a:ext cx="1755720" cy="14302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5943600" y="2057400"/>
            <a:ext cx="20574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is soil valuable physical eviden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alence at crime sce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ferability between scene and susp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isons my provid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ssociative evide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inking a suspect or object to a crime sce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nsity gradient in not a definitive test.  Why no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010280" y="685800"/>
            <a:ext cx="1865520" cy="16700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809880" y="4876920"/>
            <a:ext cx="2440080" cy="183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il Evid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soils from different locations yield similar density distrib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soils can be differentiated and distinguished by gross appearance in a side by side compari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~ 1100 distinguishable soil col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icroscopic analysis, # comparativ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oints and frequency of occur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696080" y="4191120"/>
            <a:ext cx="11383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ltimate value of soil eviden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nsity gradients are useful for comparisons when used 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ation with other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ltimate value of soil depends on its variations at the crime scene; every 10 to 100 yards are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703920" y="1295280"/>
            <a:ext cx="2440080" cy="18306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6400800" y="4343400"/>
            <a:ext cx="1735200" cy="21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lection of Soil Evid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s are collected at regular intervals within 100 yard radius of crime 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ples are collected at alibi lo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ples are representative of soil removed from suspect; top 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tablespoon is all that’s required for a comparative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ckaged and labeled in individual plastic v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486400" y="5410080"/>
            <a:ext cx="1822320" cy="11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alyzing Chemical Properties of Evid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ments: fundamental build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ocks of all substances; matter’s simplest ident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9 naturally occurring element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ranged on periodic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elements has a one 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letter symbol, first letter is capitalized, second letter is lower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idence is classified as organic or inorgan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324480" y="2743200"/>
            <a:ext cx="2559240" cy="18334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6705720" y="762120"/>
            <a:ext cx="1896840" cy="15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lide Number Placeholder 1"/>
          <p:cNvSpPr/>
          <p:nvPr/>
        </p:nvSpPr>
        <p:spPr>
          <a:xfrm>
            <a:off x="8686800" y="720576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83E95-9E85-4721-8148-ACDF26D3D550}" type="slidenum">
              <a:rPr b="0" lang="en-US" sz="1200" spc="-1" strike="noStrike">
                <a:solidFill>
                  <a:srgbClr val="6666ff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2527560" y="6215040"/>
            <a:ext cx="417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Figure 5–1  The periodic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lide Number Placeholder 1"/>
          <p:cNvSpPr/>
          <p:nvPr/>
        </p:nvSpPr>
        <p:spPr>
          <a:xfrm>
            <a:off x="8686800" y="6553080"/>
            <a:ext cx="4572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28E45-C46F-4498-A473-0E2FAB8DF534}" type="slidenum">
              <a:rPr b="0" lang="en-US" sz="1200" spc="-1" strike="noStrike">
                <a:solidFill>
                  <a:srgbClr val="6666ff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2527560" y="5562720"/>
            <a:ext cx="417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Figure 5–1  The periodic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_x000e_fg05_00100.jpg                                                 0002955C_x000c_Macintosh HD                   ABA78158:"/>
          <p:cNvPicPr/>
          <p:nvPr/>
        </p:nvPicPr>
        <p:blipFill>
          <a:blip r:embed="rId1"/>
          <a:stretch/>
        </p:blipFill>
        <p:spPr>
          <a:xfrm>
            <a:off x="685800" y="1447920"/>
            <a:ext cx="784872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ganic versus Inorgan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c: contains carb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organic: does not contain carb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447920" y="2209680"/>
            <a:ext cx="2558880" cy="18273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6553080" y="1371600"/>
            <a:ext cx="2184480" cy="19033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5715000" y="4724280"/>
            <a:ext cx="2558880" cy="18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ranged on periodic table in a systematic way; elements with similar chemical properties are in groups (= colum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llest particle of an element = at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5867280" y="3886200"/>
            <a:ext cx="23400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1T16:18:36Z</dcterms:created>
  <dc:creator>LCC Department</dc:creator>
  <dc:description/>
  <dc:language>en-US</dc:language>
  <cp:lastModifiedBy>LCC Department</cp:lastModifiedBy>
  <dcterms:modified xsi:type="dcterms:W3CDTF">2012-04-17T16:34:04Z</dcterms:modified>
  <cp:revision>26</cp:revision>
  <dc:subject/>
  <dc:title>Soil Evidence</dc:title>
</cp:coreProperties>
</file>