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jpeg" ContentType="image/jpeg"/>
  <Override PartName="/ppt/media/image54.wmf" ContentType="image/x-wmf"/>
  <Override PartName="/ppt/media/image52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48.wmf" ContentType="image/x-wmf"/>
  <Override PartName="/ppt/media/image11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53.png" ContentType="image/png"/>
  <Override PartName="/ppt/media/image25.wmf" ContentType="image/x-wmf"/>
  <Override PartName="/ppt/media/image36.wmf" ContentType="image/x-wmf"/>
  <Override PartName="/ppt/media/image29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6.wmf" ContentType="image/x-wmf"/>
  <Override PartName="/ppt/media/image18.wmf" ContentType="image/x-wmf"/>
  <Override PartName="/ppt/media/image23.wmf" ContentType="image/x-wmf"/>
  <Override PartName="/ppt/media/image58.wmf" ContentType="image/x-wmf"/>
  <Override PartName="/ppt/media/image64.png" ContentType="image/png"/>
  <Override PartName="/ppt/media/image21.wmf" ContentType="image/x-wmf"/>
  <Override PartName="/ppt/media/image16.wmf" ContentType="image/x-wmf"/>
  <Override PartName="/ppt/media/image57.wmf" ContentType="image/x-wmf"/>
  <Override PartName="/ppt/media/image63.png" ContentType="image/png"/>
  <Override PartName="/ppt/media/image20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51.png" ContentType="image/png"/>
  <Override PartName="/ppt/media/image1.png" ContentType="image/png"/>
  <Override PartName="/ppt/media/image13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28.wmf" ContentType="image/x-wmf"/>
  <Override PartName="/ppt/media/image17.wmf" ContentType="image/x-wmf"/>
  <Override PartName="/ppt/media/image27.jpeg" ContentType="image/jpeg"/>
  <Override PartName="/ppt/media/image5.wmf" ContentType="image/x-wmf"/>
  <Override PartName="/ppt/media/image35.wmf" ContentType="image/x-wmf"/>
  <Override PartName="/ppt/media/image10.png" ContentType="image/png"/>
  <Override PartName="/ppt/media/image50.wmf" ContentType="image/x-wmf"/>
  <Override PartName="/ppt/media/image30.wmf" ContentType="image/x-wmf"/>
  <Override PartName="/ppt/media/image61.jpeg" ContentType="image/jpeg"/>
  <Override PartName="/ppt/media/image31.wmf" ContentType="image/x-wmf"/>
  <Override PartName="/ppt/media/image34.wmf" ContentType="image/x-wmf"/>
  <Override PartName="/ppt/media/image40.wmf" ContentType="image/x-wmf"/>
  <Override PartName="/ppt/media/image62.jpeg" ContentType="image/jpeg"/>
  <Override PartName="/ppt/media/image19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98CB-4FEE-4AAE-8CE2-82D8B418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78D4-F0CB-4F2A-A437-FB573CFB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4E66-B0F9-4B3D-8C75-2FB49865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9C07-A97A-4319-AAB4-BCA6CD1C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63C3-CADA-4DBE-8EC4-FDA6D128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8A29-8A50-4007-B8E5-9AAF3D0B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35AC-A461-4FA8-AED5-050822FF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3A39-9952-45CA-A1B1-D656390A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6172-BA68-46DF-A4DB-86495FC7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1D88-B427-44B4-B2F7-B40E52DD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45F4-46CE-47BE-B142-51A59134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ECB4-83FB-4A47-80DE-C952EDFC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2E94-F9E3-43B2-82D8-B98E1BE6F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4.png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3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1.png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4.png"/><Relationship Id="rId3" Type="http://schemas.openxmlformats.org/officeDocument/2006/relationships/image" Target="../media/image22.wmf"/><Relationship Id="rId4" Type="http://schemas.openxmlformats.org/officeDocument/2006/relationships/image" Target="../media/image5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1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minalist’s function: detect and identify relevant chemical materials collected at scene, reconstruct and identify igniters or detonating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fic tests can not determine what was used to start a fire (rubbish or leaves) but can detect trace amounts of accelerants; many accidental fires leave no chemical 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467480" y="5105520"/>
            <a:ext cx="820800" cy="1252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38080" y="152280"/>
            <a:ext cx="18208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started, combustion reactions produce enough heat to keep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hain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, oxygen and heat ar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nition sources: electrical discharges, sparks, matches, or 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315200" y="457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553080" y="4422600"/>
            <a:ext cx="2322720" cy="2435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362320" y="4952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izing agents: supply oxygen, take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example we’ve worked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l(s) +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) + 2Fe(s) +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ycerin + KM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 +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M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lycerin reaction is the source of ignition for the thermite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934320" y="4419720"/>
            <a:ext cx="17208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re some oxidation reactions not accompanied by a fl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s must break and molecules must also collide with each other with the correct ori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moving molecules have greater kinetic energ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re high energy collision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REAC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638680" y="4427640"/>
            <a:ext cx="3684600" cy="2430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315200" y="2666880"/>
            <a:ext cx="95256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y of reaction speed =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s affecting the rate of combu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state of the fu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s must be in the gaseous phase so molecules can collide frequently enough to support a fl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how do solid fuels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od bu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1106640" cy="1636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543800" y="0"/>
            <a:ext cx="1189080" cy="2443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705720" y="4724280"/>
            <a:ext cx="183024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ing liquids and sol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higher temperatures, liquids vaporize then the vapors b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sh point: the minimum temperature required for a liquid fuel to produce enough vapor to b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the flash point is reached, the fuel can be ignited by an outside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ition temperature &gt; flash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mperature must be high enough to decompose the solid into gaseous products = pyro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086600" y="3657600"/>
            <a:ext cx="1827360" cy="1193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44480" cy="1644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705720" y="5486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Ingredients of a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Gaseous fuel, oxygen, sufficient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consideration: gas fuel-air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 range: range of possible gas or vapor fuel concentrations in air capable of bu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uel concentration is too 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too high, it won’t b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 range for gasoline is 1.3 to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162920" y="3886200"/>
            <a:ext cx="162720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fuels burn without a fl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glowing combustion = red g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charc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ustion takes place on the surface of the solid fuel in the absence of heat high enough to pyrolyze the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w oxidation occurs because the fuel can’t vaporize, example iron ru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is restricted to the surface and limits the rate of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391520" y="1066680"/>
            <a:ext cx="1074600" cy="1703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8001000" y="3581280"/>
            <a:ext cx="79524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reasing Reaction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reaction rates double with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C increase in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rning is rapid because the temperature of the fuel-air mixture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9480" y="3886200"/>
            <a:ext cx="1928880" cy="2328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162920" y="1066680"/>
            <a:ext cx="16462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re started by petroleum based accelerants, ex gas or kerosene (organ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dual accelerant may evaporate within a few days so time is a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eme Court permits the investigation to begin immediately even with out a war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arch of the fire must focus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the fire’s 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0120" y="4800600"/>
            <a:ext cx="858600" cy="18651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1892160" cy="1579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7010280" y="152280"/>
            <a:ext cx="18273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ltale signs of 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of separate or unconnected f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streamers (spread fire), ex gas tr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of containers capable of holding accele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an ignition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egularly shaped pattern on floor from poured accele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ing and entering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629400" y="4952880"/>
            <a:ext cx="1827360" cy="1638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553080" y="3200400"/>
            <a:ext cx="1820880" cy="1449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33520" y="0"/>
            <a:ext cx="12967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stry of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 proces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el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eat + other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fuels produce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and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 type: combustion and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fire produced just by mixing a fuel with a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5880" y="449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133720" y="4419720"/>
            <a:ext cx="858600" cy="1865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391520" y="457200"/>
            <a:ext cx="113328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signs of ar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 normally travels upwards, often forms a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s, winds, secondary fires, physical arrangement of structures, stair-ways, elevator shafts, holes in floor, wall or roof can shift a fire’s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s flow to lowest point so severe low burning may indicate use of an accele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likely that traces of accelerant will re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95400" cy="1504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238880" y="5030640"/>
            <a:ext cx="1712880" cy="1827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543800" y="3429000"/>
            <a:ext cx="129708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out the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may slow the rate of evap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cools and covers materials but does not affect lab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able vapor detectors are an excellent screening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1957320" cy="1492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19920" y="4191120"/>
            <a:ext cx="2065320" cy="1927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09480" y="4495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380880" y="0"/>
            <a:ext cx="16448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ng th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h and debris or anything that may contain flammable residues are collected in air tight containers,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event loss of residues through eva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tic bags are not used because the plastic will react with the hydrocarbons and permit volatiles to be dep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, uncontamin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must also be collec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substrat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181480" y="4114800"/>
            <a:ext cx="2413080" cy="968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489800" y="304920"/>
            <a:ext cx="1654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zing th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GC to detect and characterize flammable resid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dues are collected by heating the sealed container, vapor in the headspace is removed with a syringe and injected in to a G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C with mass spec can identify components of the mix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: gas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: sample recovered from f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_x000e_fg11_00800.jpg                                                 00029517_x000c_Macintosh HD                   ABA78158:"/>
          <p:cNvPicPr/>
          <p:nvPr/>
        </p:nvPicPr>
        <p:blipFill>
          <a:blip r:embed="rId1"/>
          <a:stretch/>
        </p:blipFill>
        <p:spPr>
          <a:xfrm>
            <a:off x="5043600" y="1600200"/>
            <a:ext cx="3246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ntaneous Combu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e caused by natural heat-producing process in the presence of sufficient air an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occurs in poorly ventilated cont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don’t spontaneously comb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315200" y="2895480"/>
            <a:ext cx="12366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Reactions without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thermic oxidation reactions = EXPLO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gaseous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on is caused by an increase in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is so fast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n’t get a chance to participate = rapid expansion of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705720" y="1066680"/>
            <a:ext cx="1654200" cy="2227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477120" y="5283360"/>
            <a:ext cx="206532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ed by speed of det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1000 m/s high-velocity, deto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1000 m/s low-velocity, defla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= supersonic shock wave is created, rapid oxidation, chemical bonds break apart, more heat and gases buil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lagration = burning, rapid oxidation, low-intensity pressure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5720" cy="1635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081920" y="533520"/>
            <a:ext cx="206208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cting and Analyzing Explos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samples must be col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tonated residues from crater or objects near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 mobility spectrometer (IMS) is used in the field; screens for the presence of resid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re verified through confirmatory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553080" y="5181480"/>
            <a:ext cx="195912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at the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copic examination, debris is rinsed with acetone to remove residues from debris, extract is concentrated, analyzed with color spot tests, TLC, HPLC and GC/mass sp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ory tests: IR, x-ray dif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_x000e_fg05_008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5486400" y="1295280"/>
            <a:ext cx="2376360" cy="2221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_x000e_fg05_00500.jpg                                                 0002955C_x000c_Macintosh HD                   ABA78158:"/>
          <p:cNvPicPr/>
          <p:nvPr/>
        </p:nvPicPr>
        <p:blipFill>
          <a:blip r:embed="rId2"/>
          <a:stretch/>
        </p:blipFill>
        <p:spPr>
          <a:xfrm>
            <a:off x="5029200" y="3886200"/>
            <a:ext cx="35370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nitrotoluene (T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ate (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ate 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lyce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2057400" cy="2257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Picture of nitroglycerine"/>
          <p:cNvPicPr/>
          <p:nvPr/>
        </p:nvPicPr>
        <p:blipFill>
          <a:blip r:embed="rId2"/>
          <a:stretch/>
        </p:blipFill>
        <p:spPr>
          <a:xfrm>
            <a:off x="4191120" y="3809880"/>
            <a:ext cx="296208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park is needed to start a fire (= ener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the capacity to do work or generate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energy: heat, chemical, electrical, kinetic, potential, nuclear, li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800" y="4572000"/>
            <a:ext cx="1233360" cy="1604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666880" y="4495680"/>
            <a:ext cx="1806840" cy="1731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952880" y="4648320"/>
            <a:ext cx="1812960" cy="1417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858000" y="4419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emical energy stored in the bonds of the fuel is converted into heat and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con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heat produced by a chemical reaction depends on the type of chemical bonds and the amount of fuel b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19320" y="5257800"/>
            <a:ext cx="1792080" cy="1442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781680" y="4952880"/>
            <a:ext cx="1836720" cy="1724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391520" y="25909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4800600" y="4800600"/>
            <a:ext cx="1230480" cy="1819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28600"/>
            <a:ext cx="181440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mbustion of Eth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comes from breaking chemical bonds in reactants and forming new bonds in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chemical reaction occurs, atoms are rearranged so like energy, mass is conser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bustion of ethan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+ 3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2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3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+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153280" y="3352680"/>
            <a:ext cx="768600" cy="1784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077320" y="259092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required to break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s released when bonds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ype of bond (single, double or triple) between different types of atoms has an experimentally determined bond str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 strength = energy required to break the bond or the energy released when the bond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400800" y="380880"/>
            <a:ext cx="2357280" cy="1239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952880" y="5257800"/>
            <a:ext cx="1654200" cy="1368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010280" y="5715000"/>
            <a:ext cx="1481400" cy="620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3276720" y="5334120"/>
            <a:ext cx="9316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cal Reactions that release he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exother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heat is released when bonds in the products form than is needed to break the bonds in the reac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reactions feel warm to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combustion reactions, neutralization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20680" cy="1771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181480" y="4800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5114880"/>
            <a:ext cx="1563840" cy="1743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8077320" y="609480"/>
            <a:ext cx="858600" cy="18655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6934320" y="3429000"/>
            <a:ext cx="1807920" cy="20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mical Reactions that absorb he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endother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heat is needed to break the bonds in the reactants than is released when bonds in the product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reactions feel cold to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 ice packs in first-aid kits, cooking, heating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324480" y="4572000"/>
            <a:ext cx="2246400" cy="2011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629400" y="3276720"/>
            <a:ext cx="1811160" cy="928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0" y="5086440"/>
            <a:ext cx="1120680" cy="1771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705720" y="609480"/>
            <a:ext cx="18270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a reaction start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reactions require an energy input to get started = a spa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ustion reactions have high energy barriers so a high temperature is required to start the oxidation 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11-2 or 14-1 lists ignition temperatures of several fu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1362240" cy="1830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458200" y="3124080"/>
            <a:ext cx="433440" cy="1998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315200" y="1066680"/>
            <a:ext cx="1554120" cy="1231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629400" y="5105520"/>
            <a:ext cx="909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6:34:41Z</dcterms:created>
  <dc:creator>LCC Department</dc:creator>
  <dc:description/>
  <dc:language>en-US</dc:language>
  <cp:lastModifiedBy>LCC Department</cp:lastModifiedBy>
  <dcterms:modified xsi:type="dcterms:W3CDTF">2012-05-08T20:29:07Z</dcterms:modified>
  <cp:revision>33</cp:revision>
  <dc:subject/>
  <dc:title>Arson</dc:title>
</cp:coreProperties>
</file>