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8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9.jpeg" ContentType="image/jpeg"/>
  <Override PartName="/ppt/media/image25.png" ContentType="image/png"/>
  <Override PartName="/ppt/media/image10.wmf" ContentType="image/x-wmf"/>
  <Override PartName="/ppt/media/image13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8.jpeg" ContentType="image/jpeg"/>
  <Override PartName="/ppt/media/image41.wmf" ContentType="image/x-wmf"/>
  <Override PartName="/ppt/media/image42.png" ContentType="image/png"/>
  <Override PartName="/ppt/media/image23.jpeg" ContentType="image/jpeg"/>
  <Override PartName="/ppt/media/image43.png" ContentType="image/png"/>
  <Override PartName="/ppt/media/image44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142-7575-4400-982B-396CFA60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AAF-0AC0-486E-B2D3-291156EB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EA6-1A15-48CA-A82A-BC0F4270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1C2-CE40-476F-A127-38C8A84E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563-59CD-433C-90D6-484A1EC1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D5D-FBC4-4351-A412-B34D26AC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37B-94C0-41BD-B37C-02AA6199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7D1-FFE7-4425-8D53-67F474C2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965-0BD6-4DE2-B339-301993EF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0D0-F82B-498D-AD30-12B939F1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E98-19F5-4BCF-ACB3-8EA4823C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9AE-9753-41DB-AAF3-AD9A5318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C3F0-750C-4C1D-835C-75EDDBB1C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is distinguishable by type and can be used to link a sample to an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 system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disastrous if different blood types are m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wo individuals, except twins were thought to have identical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actors are genetically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4160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48720" y="3962520"/>
            <a:ext cx="814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12-1 or 10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447920"/>
          <a:ext cx="8229600" cy="312372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133720"/>
                <a:gridCol w="2057400"/>
              </a:tblGrid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= reaction = agglutination, - = no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D antibodies by adding cells with known anti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77616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mon is each blood ty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able above. Which antibodies does each blood type contain and what will happen when A or B type cells ar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301464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A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B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factor (+/-) must also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the universal donor, AB is the universal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6553080" cy="258768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te t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from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371600" cy="162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21114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nsic Characterization of Bloo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minalist 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which species did the sample origin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uman, how closely is the sample associated with an individ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272040" cy="2849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2330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color tes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lphthalein = Kastle-Meyer color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tain + reduced phenolphthalein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ple is blood, a deep p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forms just like on televi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pecific test for blood 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getables like potatoes 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pink, although it is highly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40640" y="53352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51814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69360" y="3124080"/>
            <a:ext cx="15746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Kastle-Meyer tes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in blood is a protein that transports oxygen and gives blood its red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possess peroxidase-lik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xidases are enzymes that accelerate oxidation of several organic compounds by pe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99240" y="990720"/>
            <a:ext cx="15447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liminary Color Tes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stix str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egon officers are not trained to use presumptive tests. 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ficers are trained to collect swabs and submit them to the lab for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: produ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, no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sprayed and viewed in a darken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est, blood is still viewable after a 300 000x di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terfere with DNA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Luminol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contain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nly needs a catalyst or 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releases energy (blue light) when mixed with an oxidizing agent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 excited molecule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rate is slow however iron in the blood serves as a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81480" y="5257800"/>
            <a:ext cx="2925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ataly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speeds up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is not consumed in a chemical reaction; it gets recyc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small amount of catalyst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occurrence of blood stains at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instead of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f we think the sample is blood, how do we know for 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rystalline test: chemicals are added and characteristic crystals of hemoglobin derivative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 tests are less sensitive than color tests and more susceptible to interference from contami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human protein or DNA amplification also confir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84120" cy="1903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5335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blood hu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recipitin test: an antibody reacts with an antigen to form a 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tibodies for human and other animal blood are used such as dog, cat, 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2666880"/>
            <a:ext cx="5923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piti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sitive test, even diluted and aged samples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ures 12-6, 12-7 or 10-8, 10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666880"/>
            <a:ext cx="71024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losely is the sample associated with an individ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however until the mid-90’s A-B-O typing wa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bstances in blood were also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= proteins that regulate bio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c enzymes exist in different forms and can be separated into components called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one has the same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726320" y="5662440"/>
            <a:ext cx="1417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 controlled traits 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heredity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evelopment of specific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ed on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30440" cy="1538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153280" y="1981080"/>
            <a:ext cx="533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like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ucleus of every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human chromosomes in cells (23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organized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cells have only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mated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776240" cy="163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7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contains only a X chromosome (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ins either a X or Y chromosome (sh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determines the sex of a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 are XX, males are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come together in pairs, so do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91520" y="27432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67280" y="502776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: position a gene occupies on a chromosome; similarly positioned on chromosome for certain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: alternative forms of a gene located at the same point of a pair of chromosomes, ex. Blood types A, B, O; DNA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511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of similar genes, one inherited from mom, the other from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: has two identical allelic genes on two corresponding positions of a chromosome pair, ex. AA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: has two different allelic genes on two corresponding positions of a chromosome pair, ex. AO, BO,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10666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us 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 is 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 are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recessive (remains hid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 and AO are both possible gene pairs for type A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ssive gene only shows when the pair is hom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781680" y="1447920"/>
            <a:ext cx="12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506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ture of cells, enzymes, proteins and inorg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(55%): fluid portion of blood; mostly water, contains suspend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cells (45%): solid po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cytes: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s: white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568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genetics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type: a pair of allele genes together; can’t be determined by a lab test; also called a gen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: characteristic chemical structures; unrelated to transporting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mpart blood-type characteristics, grouped into 15 different systems (A-B-O plus R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1880" y="1676520"/>
            <a:ext cx="533520" cy="1798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629400" y="5334120"/>
            <a:ext cx="851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s and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 blood has A antigens on the surface of the red blood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B blood has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B  blood has both A                    and B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 blood has no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cond Fact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r absence of antigens determines bloo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 factor or D anti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+: D antigen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-: D antigen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lood banking, all three antigens must b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1739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type: outward characteristic, blood type of A, B, AB or O is an example; the physical manifestation of a trait, hair color is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nett squares are helpful for determining possible genotype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genes go on one s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’s genes on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431720" cy="175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78760" y="-380880"/>
            <a:ext cx="1965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gene can appear in a child unless the gene is present in at least one of th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’s genotype is the combination of a gene from each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paternity testing, not so much in criminal investigations, DNA i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otypes an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  <a:gridCol w="33526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or 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 or 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ly expre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739880" cy="1808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7066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ossible blood types, both genotype and phenotype for a child with a father with A blood and a mother with O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enotypes are possible with each blood pheno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 Punnett square for each possible genotype combination for each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-228600"/>
            <a:ext cx="20210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the 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lot: protein in plas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fibrin traps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clotted material =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um is the pale yellow liquid you see when you have your blood drawn (if you l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focus on the blood components directly related to forensics and blood identification: red blood cells and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42040" y="5486400"/>
            <a:ext cx="2001960" cy="15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106668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lungs to body and remo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issues back to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surface of red blood cells are anit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ttach to anti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re bivalent being they have two reactive sites so they can attach to antigens on two different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ross-linked cells = agglutin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2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Figure 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12_001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3429000" y="457200"/>
            <a:ext cx="5330880" cy="579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 and antibodies co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tibodies present are not specific for the antigen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happens when foreign serum is ad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-antibody reaction = agglut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30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7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60548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335268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ie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nti-A nor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nti-A and 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blood of different types should not be mix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typing/serology: study of antigen-antibody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tests: whole blood is typed using two antiserums,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do this in lab with imitation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668600" cy="140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36306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46:30Z</dcterms:created>
  <dc:creator>LCC Department</dc:creator>
  <dc:description/>
  <dc:language>en-US</dc:language>
  <cp:lastModifiedBy>LCC Department</cp:lastModifiedBy>
  <dcterms:modified xsi:type="dcterms:W3CDTF">2011-05-13T16:39:49Z</dcterms:modified>
  <cp:revision>46</cp:revision>
  <dc:subject/>
  <dc:title>Forensic Serology</dc:title>
</cp:coreProperties>
</file>