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32.wmf" ContentType="image/x-wmf"/>
  <Override PartName="/ppt/media/image28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31.wmf" ContentType="image/x-wmf"/>
  <Override PartName="/ppt/media/image9.jpeg" ContentType="image/jpeg"/>
  <Override PartName="/ppt/media/image25.png" ContentType="image/png"/>
  <Override PartName="/ppt/media/image10.wmf" ContentType="image/x-wmf"/>
  <Override PartName="/ppt/media/image13.wmf" ContentType="image/x-wmf"/>
  <Override PartName="/ppt/media/image34.wmf" ContentType="image/x-wmf"/>
  <Override PartName="/ppt/media/image35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8.jpeg" ContentType="image/jpeg"/>
  <Override PartName="/ppt/media/image41.wmf" ContentType="image/x-wmf"/>
  <Override PartName="/ppt/media/image42.png" ContentType="image/png"/>
  <Override PartName="/ppt/media/image23.jpeg" ContentType="image/jpeg"/>
  <Override PartName="/ppt/media/image43.png" ContentType="image/png"/>
  <Override PartName="/ppt/media/image44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37.wmf" ContentType="image/x-wmf"/>
  <Override PartName="/ppt/media/image7.wmf" ContentType="image/x-wmf"/>
  <Override PartName="/ppt/media/image26.png" ContentType="image/png"/>
  <Override PartName="/ppt/media/image36.wmf" ContentType="image/x-wmf"/>
  <Override PartName="/ppt/media/image6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3.wmf" ContentType="image/x-wmf"/>
  <Override PartName="/ppt/media/image3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3E9-68DD-477E-BBE0-165099B0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3D1A-3FC1-4A51-91B5-7DCC36DD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D79-5F5A-4B8C-8D6C-F64DABE8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DE6-0BD1-45D6-ADFE-82B22424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4EE-206C-44BC-BF79-1EE6D26C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97D-A1A7-414C-8301-C3ACE0C6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6B9-B6C4-46AE-9AE7-36EDDE7D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376-DF9F-49F4-8DCE-9ED7237B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550-38EF-439F-8210-CA1785E4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2B6-E798-47F7-BD19-B5F935A1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C0A6-1F01-4AE7-923B-7357D001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178-4500-4289-9BF3-4E4181BF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A70D-3E1C-4461-9073-A540ACC3C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Se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is distinguishable by type and can be used to link a sample to an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 system i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disastrous if different blood types are mi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wo individuals, except twins were thought to have identical blood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factors are genetically contro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2541600" cy="896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96080" y="609480"/>
            <a:ext cx="887400" cy="887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848720" y="3962520"/>
            <a:ext cx="81432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12-1 or 10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447920"/>
          <a:ext cx="8229600" cy="3123720"/>
        </p:xfrm>
        <a:graphic>
          <a:graphicData uri="http://schemas.openxmlformats.org/drawingml/2006/table">
            <a:tbl>
              <a:tblPr/>
              <a:tblGrid>
                <a:gridCol w="1143000"/>
                <a:gridCol w="2895480"/>
                <a:gridCol w="2133720"/>
                <a:gridCol w="2057400"/>
              </a:tblGrid>
              <a:tr h="97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erum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serum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= reaction = agglutination, - = no 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ID antibodies by adding cells with known anti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620120" y="380880"/>
            <a:ext cx="77616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ommon is each blood ty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the table above. Which antibodies does each blood type contain and what will happen when A or B type cells ar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3014640"/>
        </p:xfrm>
        <a:graphic>
          <a:graphicData uri="http://schemas.openxmlformats.org/drawingml/2006/table">
            <a:tbl>
              <a:tblPr/>
              <a:tblGrid>
                <a:gridCol w="990720"/>
                <a:gridCol w="2301840"/>
                <a:gridCol w="1644480"/>
                <a:gridCol w="1646280"/>
                <a:gridCol w="1646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+ A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+ B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ating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factor (+/-) must also be consi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s the universal donor, AB is the universal acce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6553080" cy="2587680"/>
        </p:xfrm>
        <a:graphic>
          <a:graphicData uri="http://schemas.openxmlformats.org/drawingml/2006/table">
            <a:tbl>
              <a:tblPr/>
              <a:tblGrid>
                <a:gridCol w="1143000"/>
                <a:gridCol w="2895480"/>
                <a:gridCol w="2514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te t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 from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,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ry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1371600" cy="1625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781680" y="2133720"/>
            <a:ext cx="2111400" cy="19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ensic Characterization of Blood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iminalist as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sample bl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which species did the sample origin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human, how closely is the sample associated with an individu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638680" y="3809880"/>
            <a:ext cx="3272040" cy="2849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248520" y="5335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990720" y="4191120"/>
            <a:ext cx="233028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sample bl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liminary color test i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lphthalein = Kastle-Meyer color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stain + reduced phenolphthalein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ample is blood, a deep p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forms just like on televis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 specific test for blood beca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egetables like potatoes al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pink, although it is highly indi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40640" y="533520"/>
            <a:ext cx="2403360" cy="1541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162920" y="5181480"/>
            <a:ext cx="1795320" cy="1424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569360" y="3124080"/>
            <a:ext cx="15746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the Kastle-Meyer test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in blood is a protein that transports oxygen and gives blood its red col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oglobin possess peroxidase-like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oxidases are enzymes that accelerate oxidation of several organic compounds by per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43800" y="5562720"/>
            <a:ext cx="851040" cy="85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99240" y="990720"/>
            <a:ext cx="154476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eliminary Color Tes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astix stri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egon officers are not trained to use presumptive tests.  Why no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ficers are trained to collect swabs and submit them to the lab for tes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: produc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, not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419720" y="40006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umi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s are sprayed and viewed in a darkene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sitive test, blood is still viewable after a 300 000x di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interfere with DNA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324480" y="4419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Luminol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 contain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only needs a catalyst or ac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minol releases energy (blue light) when mixed with an oxidizing agent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an excited molecule is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ction rate is slow however iron in the blood serves as a cataly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81480" y="5257800"/>
            <a:ext cx="29257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cataly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talyst speeds up a chemical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talyst is not consumed in a chemical reaction; it gets recyc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a small amount of catalyst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3886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ensic Se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occurrence of blood stains at cr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now used instead of blood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436248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if we think the sample is blood, how do we know for s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crystalline test: chemicals are added and characteristic crystals of hemoglobin derivatives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ystal tests are less sensitive than color tests and more susceptible to interference from contamin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for human protein or DNA amplification also confirm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84120" cy="1903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-53352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blood hum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precipitin test: an antibody reacts with an antigen to form a precip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antibodies for human and other animal blood are used such as dog, cat, d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_x000e_fg12_007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1600200" y="2666880"/>
            <a:ext cx="59230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ipiti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nsitive test, even diluted and aged samples re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figures 12-6, 12-7 or 10-8, 10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_x000e_fg12_007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762120" y="2666880"/>
            <a:ext cx="710244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losely is the sample associated with an individu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now used however until the mid-90’s A-B-O typing wa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ubstances in blood were also us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ymes = proteins that regulate biochemical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orphic enzymes exist in different forms and can be separated into components called iso-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everyone has the same iso-enzy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4320" cy="181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726320" y="5662440"/>
            <a:ext cx="141768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les of Hered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tically controlled traits are inherited from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heredity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development of specific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ed on chromos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5880" y="4800600"/>
            <a:ext cx="1630440" cy="15382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153280" y="1981080"/>
            <a:ext cx="5335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like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nucleus of every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6 human chromosomes in cells (23 pai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is organized into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oductive cells have only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mated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019920" y="1219320"/>
            <a:ext cx="1776240" cy="1630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09880"/>
            <a:ext cx="179712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v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g contains only a X chromosome (lo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rm contains either a X or Y chromosome (sh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 determines the sex of a ch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s are XX, males are 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come together in pairs, so do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91520" y="2743200"/>
            <a:ext cx="1385640" cy="1817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867280" y="5027760"/>
            <a:ext cx="115092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us: position a gene occupies on a chromosome; similarly positioned on chromosome for certain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le: alternative forms of a gene located at the same point of a pair of chromosomes, ex. Blood types A, B, O; DNA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4724280"/>
            <a:ext cx="151128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up of similar genes, one inherited from mom, the other from 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ozygous: has two identical allelic genes on two corresponding positions of a chromosome pair, ex. AA or B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terozygous: has two different allelic genes on two corresponding positions of a chromosome pair, ex. AO, BO, 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077320" y="304920"/>
            <a:ext cx="106668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erozygous gene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gene is domi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B are domin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is recessive (remains hidd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 and AO are both possible gene pairs for type A bl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essive gene only shows when the pair is homozyg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781680" y="1447920"/>
            <a:ext cx="1225800" cy="1368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8506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e of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xture of cells, enzymes, proteins and inorg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ma(55%): fluid portion of blood; mostly water, contains suspende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pended cells (45%): solid por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ythrocytes: red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ukocytes: white blood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48520" y="4495680"/>
            <a:ext cx="256860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genetics ter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type: a pair of allele genes together; can’t be determined by a lab test; also called a gene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s: characteristic chemical structures; unrelated to transporting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mpart blood-type characteristics, grouped into 15 different systems (A-B-O plus R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1880" y="1676520"/>
            <a:ext cx="533520" cy="1798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629400" y="5334120"/>
            <a:ext cx="8510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ypes and Anti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 blood has A antigens on the surface of the red blood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B blood has 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B  blood has both A                    and B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 blood has no antigens on the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962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econd Facto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esence or absence of antigens determines bloo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 factor or D antig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+: D antigen is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h -: D antigen is ab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blood banking, all three antigens must be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095880" y="2286000"/>
            <a:ext cx="173988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enotype: outward characteristic, blood type of A, B, AB or O is an example; the physical manifestation of a trait, hair color is anoth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nett squares are helpful for determining possible genotypes of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’s genes go on one s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her’s genes on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162920" y="4800600"/>
            <a:ext cx="1431720" cy="1755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178760" y="-380880"/>
            <a:ext cx="196524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gene can appear in a child unless the gene is present in at least one of the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’s genotype is the combination of a gene from each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in paternity testing, not so much in criminal investigations, DNA is also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enotypes and Geno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209680"/>
                <a:gridCol w="2667240"/>
                <a:gridCol w="33526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o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inant Ge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 or 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 or B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lly expres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ss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162920" y="2514600"/>
            <a:ext cx="1739880" cy="1808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8153280" y="533520"/>
            <a:ext cx="70668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ossible blood types, both genotype and phenotype for a child with a father with A blood and a mother with O blo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genotypes are possible with each blood phenotyp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 Punnett square for each possible genotype combination for each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276640" cy="1601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28600" y="-228600"/>
            <a:ext cx="202104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the Nature of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clot: protein in plasm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ed fibrin traps red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al of clotted material =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um is the pale yellow liquid you see when you have your blood drawn (if you loo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focus on the blood components directly related to forensics and blood identification: red blood cells and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142040" y="5486400"/>
            <a:ext cx="2001960" cy="152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04000" y="1066680"/>
            <a:ext cx="23400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lungs to body and remove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issues back to 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surface of red blood cells are anit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ies attach to antig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bodies are bivalent being they have two reactive sites so they can attach to antigens on two different red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cross-linked cells = agglutin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23400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 12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 Figure 10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_x000e_fg12_00100.jpg                                                 0002951C_x000c_Macintosh HD                   ABA78158:"/>
          <p:cNvPicPr/>
          <p:nvPr/>
        </p:nvPicPr>
        <p:blipFill>
          <a:blip r:embed="rId1"/>
          <a:stretch/>
        </p:blipFill>
        <p:spPr>
          <a:xfrm>
            <a:off x="3429000" y="457200"/>
            <a:ext cx="5330880" cy="5791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280" y="3276720"/>
            <a:ext cx="296244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 Bl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ens and antibodies co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ntibodies present are not specific for the antigen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at happens when foreign serum is ad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gen-antibody reaction = agglut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3600" y="4724280"/>
            <a:ext cx="30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75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605480"/>
        </p:xfrm>
        <a:graphic>
          <a:graphicData uri="http://schemas.openxmlformats.org/drawingml/2006/table">
            <a:tbl>
              <a:tblPr/>
              <a:tblGrid>
                <a:gridCol w="2133720"/>
                <a:gridCol w="2743200"/>
                <a:gridCol w="335268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gen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bodies Pres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on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A and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 anti-A nor 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 A nor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h anti-A and  anti-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324480" y="0"/>
            <a:ext cx="227664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why blood of different types should not be mix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od typing/serology: study of antigen-antibody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tests: whole blood is typed using two antiserums, A and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do this in lab with imitation bl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1668600" cy="1406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5410080"/>
            <a:ext cx="36306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5:46:30Z</dcterms:created>
  <dc:creator>LCC Department</dc:creator>
  <dc:description/>
  <dc:language>en-US</dc:language>
  <cp:lastModifiedBy>LCC Department</cp:lastModifiedBy>
  <dcterms:modified xsi:type="dcterms:W3CDTF">2011-05-13T16:39:49Z</dcterms:modified>
  <cp:revision>46</cp:revision>
  <dc:subject/>
  <dc:title>Forensic Serology</dc:title>
</cp:coreProperties>
</file>