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EB1-DF38-49BE-9724-1562D061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CA8-5018-4E0B-81B7-2C678E0A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217-D201-4CD4-A727-3F152C65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65B-F6A3-4E4B-A50B-70DECFC5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214-7060-47A0-A08A-3F89E074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D60-6CFC-4324-A994-64C8995D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83C-09C9-41C7-BD72-FF2077B5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881-4446-46EE-A359-4A7CA705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778-A0EB-401C-8C9F-6D080106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856-2007-4A0E-B3A9-DA76BA6F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5FA-E156-4911-B754-C995D666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5F5-78A0-464C-A5DA-3AF958AF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9C5C-E5E9-41ED-9AAE-3E5695B5B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= any disintegrated surfac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or 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rocks, minerals, vegetation and animal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ncludes manufactured goods such as glass, paint chips, asphalt, brick or cinder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materials my impart soil with characteristics unique to a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9922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elements can combine to form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has different physical and chemical properties than its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Mx5JJWI2a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19520" cy="1370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19195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s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in a compou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by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 million identifie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843280" cy="115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654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state change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1755720" cy="14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soil valuable physical evi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at crim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ability between scene and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my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sociativ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ing a suspect or object to a crime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 in not a definitive test. 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865520" cy="1670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4876920"/>
            <a:ext cx="2440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ils from different locations yield similar dens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ils can be differentiated and distinguished by gross appearance in a side by side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1100 distinguishable soil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copic analysis, # compar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s and frequency of 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96080" y="41911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timate value of soil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s are useful for comparisons when us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with other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 value of soil depends on its variations at the crime scene; every 10 to 100 yard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03920" y="1295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17352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of 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are collected at regular intervals within 100 yard radius of crim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collected at alibi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representative of soil removed from suspect; top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ablespoon is all that’s required for a 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d and labeled in individual plastic v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6400" y="5410080"/>
            <a:ext cx="18223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ing Chemical Properties of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: fundamental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ll substances; matter’s simplest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 naturally occurring elem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d on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s has a on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letter symbol, first letter is capitalized, second letter is low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is classified as organic or inorg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24480" y="2743200"/>
            <a:ext cx="255924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05720" y="76212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8686800" y="720576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8EBC-D369-4CED-A5D1-A32D78B40D3F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27560" y="621504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8686800" y="65530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050F-6D3A-4D17-9201-25A0B34C8A3E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27560" y="556272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_x000e_fg05_00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144792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versus 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: contain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: does not contain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2184480" cy="190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d on periodic table in a systematic way; elements with similar chemical properties are in groups (= colum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st particle of an element =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34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2-04-17T16:34:04Z</dcterms:modified>
  <cp:revision>26</cp:revision>
  <dc:subject/>
  <dc:title>Soil Evidence</dc:title>
</cp:coreProperties>
</file>