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90B-FDEF-42B0-BFED-FD8440AC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C79-1724-4B72-8700-8ED43CBD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A3C-DC86-4FE9-973A-A3318FC6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E59-AEBC-4CBA-B61A-D50D43FF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6E2-CEC3-48B4-9DB5-EBC27103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B40-022A-4F03-BC26-CE798CA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B1B-E52F-41E5-933F-C3301DC5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28D-A44B-4F11-B2F2-494BDC1D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BFE-C391-4B6B-87AA-8C15D1C7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E70-60C6-447F-AED7-C27CA701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C61-7C19-45C2-8963-E753EE0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1AC-2CF2-414D-B7D8-5A1DDB6C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00FB-EC9A-4718-B345-105BF7468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the purpose of a standard or reference sample. Give an example and include where the reference or standard would be collected from and how the sample would be used by a forensic scienti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arn full cred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standard or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here the reference or standard would be coll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sample would be used by a forensic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3876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K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.  A pure, known sample of a drug or a piece of glass collected from a broken window at a crime scene would b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e, known sample of a drug or a piece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067360"/>
            <a:ext cx="14241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fro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ed from a broken window at a crim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s other samples collected from the suspect or crime scene to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1567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25:32Z</dcterms:created>
  <dc:creator>LCC Department</dc:creator>
  <dc:description/>
  <dc:language>en-US</dc:language>
  <cp:lastModifiedBy>LCC Department</cp:lastModifiedBy>
  <dcterms:modified xsi:type="dcterms:W3CDTF">2012-05-02T16:31:30Z</dcterms:modified>
  <cp:revision>2</cp:revision>
  <dc:subject/>
  <dc:title>Previous Exam Question</dc:title>
</cp:coreProperties>
</file>