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F8A-3BB7-4265-AFCD-B3F6925C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8EA-0F77-43C1-9417-19E81B41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B17-333F-44FD-85A2-ACE96053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615-33F5-4D43-93CD-2B5B998E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3AB-B9B5-4A24-B773-67E86210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C71-CD82-4482-BCB1-1BBC15EC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D61-C5C8-400E-BDB9-50BCB643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942-2B7B-4F5C-B8DE-F5FD5CCC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212-1BFF-475F-BAF2-384C9039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171-26BA-4D30-9A3D-45F342CE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803-CE7E-430E-9ED3-0ED0188C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EA0-BD94-497F-BC5C-6D638D7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DCAB-BA47-4FAB-A62A-3B0D820FE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1-05-11T15:41:13Z</dcterms:modified>
  <cp:revision>30</cp:revision>
  <dc:subject/>
  <dc:title>Arson</dc:title>
</cp:coreProperties>
</file>