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D6B-76DC-4680-960C-71C56B460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DC3-67B1-4C55-9A2E-19C0F5D5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8E3-6FCF-4868-8D50-C1DE50A0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147-93D8-4A59-8D66-85C88A061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763-A5D2-47B6-8F3E-0D1A0525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0AB-1E0C-4101-B374-63A0AC16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B3D-5044-41EA-B2C1-363C3108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3D3-6284-4F50-82BE-AB766335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25C-EB6A-425B-BAD9-1F5173D4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C12F-0F3C-4AAC-81A0-5B4D8B9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2F3-C156-4E6E-9B73-7992F1F1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25B-BA22-453D-BC3E-EA3A035A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95E0-5B4C-4D62-83E3-50EDF2E68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positively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(n) are not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negatively charged, found outside the nucleus, have a relative mass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18334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 net charge so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#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each element contain a different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tomic #, it’s the whole number of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25592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# =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#n  (protons plus neutr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= weighted average.  Atoms of the same element can have a different number of neutrons =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topes of Hyd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tom has one prot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-1, hydrogen-2, hydrogen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name – mas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_x000e_fg06_008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2286000"/>
            <a:ext cx="87631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the nucleus in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s define an area in space around the nucleus where the electron is likely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rbital has a specific amount of energy =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st stable form of an atom, all electrons are in the lowest possible energy levels = groun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nergy moves the electrons from a lower energy state to a higher energy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gher energy level the electrons are said to be EXC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4114800"/>
            <a:ext cx="5603760" cy="245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747720" cy="88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55412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2:48Z</dcterms:created>
  <dc:creator>LCC Department</dc:creator>
  <dc:description/>
  <dc:language>en-US</dc:language>
  <cp:lastModifiedBy>LCC Department</cp:lastModifiedBy>
  <dcterms:modified xsi:type="dcterms:W3CDTF">2012-04-30T16:24:38Z</dcterms:modified>
  <cp:revision>2</cp:revision>
  <dc:subject/>
  <dc:title>Atoms, the fundamental and smallest particle of each element</dc:title>
</cp:coreProperties>
</file>