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jpeg" ContentType="image/jpeg"/>
  <Override PartName="/ppt/media/image54.wmf" ContentType="image/x-wmf"/>
  <Override PartName="/ppt/media/image52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53.png" ContentType="image/png"/>
  <Override PartName="/ppt/media/image25.wmf" ContentType="image/x-wmf"/>
  <Override PartName="/ppt/media/image36.wmf" ContentType="image/x-wmf"/>
  <Override PartName="/ppt/media/image2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6.wmf" ContentType="image/x-wmf"/>
  <Override PartName="/ppt/media/image18.wmf" ContentType="image/x-wmf"/>
  <Override PartName="/ppt/media/image23.wmf" ContentType="image/x-wmf"/>
  <Override PartName="/ppt/media/image58.wmf" ContentType="image/x-wmf"/>
  <Override PartName="/ppt/media/image64.png" ContentType="image/png"/>
  <Override PartName="/ppt/media/image21.wmf" ContentType="image/x-wmf"/>
  <Override PartName="/ppt/media/image16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28.wmf" ContentType="image/x-wmf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10.png" ContentType="image/png"/>
  <Override PartName="/ppt/media/image50.wmf" ContentType="image/x-wmf"/>
  <Override PartName="/ppt/media/image30.wmf" ContentType="image/x-wmf"/>
  <Override PartName="/ppt/media/image61.jpeg" ContentType="image/jpeg"/>
  <Override PartName="/ppt/media/image31.wmf" ContentType="image/x-wmf"/>
  <Override PartName="/ppt/media/image34.wmf" ContentType="image/x-wmf"/>
  <Override PartName="/ppt/media/image40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C75-07A4-4963-A2F5-7EBDC95F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25E-A986-4641-B1EF-F3493F9B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A2F-1449-460E-819B-A19419B7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698-E695-4513-A59F-A22142E1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D09-88DE-498A-8D77-A7C975A8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396-66AD-434F-ACE3-29D84ED1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324-BCCB-4A57-80C2-DADFB908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084-51F1-4A49-AEC8-168743A0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6F5-FC24-42D9-914D-46A5F5B4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612-E082-47E9-B91D-7482EA92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B5B-C094-46A8-930B-A4800E7E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412-DD28-4A98-B0F4-167BC418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9EBB-C59B-4F60-99C6-10B6869A7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3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4.png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ist’s function: detect and identify relevant chemical materials collected at scene, reconstruct and identify igniters or detonat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tests can not determine what was used to start a fire (rubbish or leaves) but can detect trace amounts of accelerants; many accidental fires leave no chemical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820800" cy="125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152280"/>
            <a:ext cx="1820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arted, combustion reactions produce enough heat to keep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, oxygen and heat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ition sources: electrical discharges, sparks, matches, or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53080" y="4422600"/>
            <a:ext cx="2322720" cy="2435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ing agents: supply oxygen, tak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xample we’ve work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l(s)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2Fe(s)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erin +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ycerin reaction is the source of ignition for the thermit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720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some oxidation reactions not accompanied by a fl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must break and molecules must also collide with each other with the correc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moving molecules have greater kinetic ener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high energy collis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REA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4427640"/>
            <a:ext cx="3684600" cy="243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15200" y="2666880"/>
            <a:ext cx="95256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reaction speed =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ffecting the rate of combu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state of the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s must be in the gaseous phase so molecules can collide frequently enough to support a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how do solid fuel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 b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6640" cy="163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189080" cy="244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ing liquids and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er temperatures, liquids vaporize then the vapors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point: the minimum temperature required for a liquid fuel to produce enough vapor to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flash point is reached, the fuel can be ignited by an outsid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ition temperature &gt; flas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must be high enough to decompose the solid into gaseous products = pyr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657600"/>
            <a:ext cx="1827360" cy="119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44480" cy="164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gredients of a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aseous fuel, oxygen, sufficient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nsideration: gas fuel-ai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: range of possible gas or vapor fuel concentrations in air capable of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uel concentration is too 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oo high, it won’t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 for gasoline is 1.3 to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3886200"/>
            <a:ext cx="16272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fuels burn without a fl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glowing combustion = red g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har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takes place on the surface of the solid fuel in the absence of heat high enough to pyrolyz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oxidation occurs because the fuel can’t vaporize, example iron 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is restricted to the surface and limits the rate of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74600" cy="170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01000" y="3581280"/>
            <a:ext cx="79524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ing Reac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action rates double with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increas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rning is rapid because the temperature of the fuel-air mixt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928880" cy="23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2920" y="1066680"/>
            <a:ext cx="1646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started by petroleum based accelerants, ex gas or kerosene (orga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accelerant may evaporate within a few days so time is a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permits the investigation to begin immediately even with out a war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of the fire must focu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fire’s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0120" y="480060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892160" cy="157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010280" y="152280"/>
            <a:ext cx="1827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tale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separate or unconnected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streamers (spread fire), ex gas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containers capable of holding accele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n ignition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gularly shaped pattern on floor from poured accele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nd enter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827360" cy="163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1820880" cy="144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1296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proc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t + othe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fuels produc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type: combustion and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ire produced just by mixing a fuel with 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1332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normally travels upwards, often forms a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s, winds, secondary fires, physical arrangement of structures, stair-ways, elevator shafts, holes in floor, wall or roof can shift a fire’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 flow to lowest point so severe low burning may indicate use of an accele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likely that traces of accelerant will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540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8880" y="5030640"/>
            <a:ext cx="171288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543800" y="3429000"/>
            <a:ext cx="1297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out the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ay slow the rate of eva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ols and covers materials but does not affect lab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 vapor detectors are an excellent screen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57320" cy="1492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065320" cy="192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0"/>
            <a:ext cx="1644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 and debris or anything that may contain flammable residues are collected in air tight containers,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loss of residues through eva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bags are not used because the plastic will react with the hydrocarbons and permit volatiles to be de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, uncontam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ust also be collec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ubstra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81480" y="4114800"/>
            <a:ext cx="2413080" cy="968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489800" y="304920"/>
            <a:ext cx="1654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C to detect and characterize flammable resi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es are collected by heating the sealed container, vapor in the headspace is removed with a syringe and injected in to a 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with mass spec can identify components of the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: gas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: sample recovered from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_x000e_fg11_00800.jpg                                                 00029517_x000c_Macintosh HD                   ABA78158:"/>
          <p:cNvPicPr/>
          <p:nvPr/>
        </p:nvPicPr>
        <p:blipFill>
          <a:blip r:embed="rId1"/>
          <a:stretch/>
        </p:blipFill>
        <p:spPr>
          <a:xfrm>
            <a:off x="5043600" y="1600200"/>
            <a:ext cx="324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ly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ark is needed to start a fire (=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the capacity to do work or generat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nergy: heat, chemical, electrical, kinetic, potential, nuclear,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233360" cy="1604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1806840" cy="173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52880" y="4648320"/>
            <a:ext cx="1812960" cy="141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energy stored in the bonds of the fuel is converted into heat an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heat produced by a chemical reaction depends on the type of chemical bonds and the amount of fuel 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1792080" cy="14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3672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391520" y="2590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800600" y="4800600"/>
            <a:ext cx="1230480" cy="181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28600"/>
            <a:ext cx="1814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mbustion of Eth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comes from breaking chemical bonds in reactants and forming new bonds i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hemical reaction occurs, atoms are rearranged so like energy, mass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bustion of ethan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53280" y="3352680"/>
            <a:ext cx="768600" cy="1784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quired to brea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leased when bond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ype of bond (single, double or triple) between different types of atoms has an experimentally determined bo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strength = energy required to break the bond or the energy released when the bond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57280" cy="123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165420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10280" y="5715000"/>
            <a:ext cx="1481400" cy="62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76720" y="5334120"/>
            <a:ext cx="9316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release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x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released when bonds in the products form than is needed to break the bonds in the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warm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combustion reactions, neutraliza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114880"/>
            <a:ext cx="156384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077320" y="609480"/>
            <a:ext cx="858600" cy="1865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934320" y="3429000"/>
            <a:ext cx="18079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absorb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nd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needed to break the bonds in the reactants than is released when bonds in the produc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cold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ice packs in first-aid kits, cooking, heat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246400" cy="201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1811160" cy="92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508644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05720" y="609480"/>
            <a:ext cx="1827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a reaction start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actions require an energy input to get started = a s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reactions have high energy barriers so a high temperature is required to start the oxidat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11-2 or 14-1 lists ignition temperatures of severa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362240" cy="183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458200" y="3124080"/>
            <a:ext cx="433440" cy="199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15200" y="1066680"/>
            <a:ext cx="1554120" cy="123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629400" y="510552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2-05-08T20:29:07Z</dcterms:modified>
  <cp:revision>33</cp:revision>
  <dc:subject/>
  <dc:title>Arson</dc:title>
</cp:coreProperties>
</file>