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B74-C7F2-4CB7-A0F2-0EB08FE0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936-97EE-4A2D-89AB-92F19930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E95-D6FB-4ED3-B145-C03FF3C5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0C2-957F-4EB6-BE48-708BC363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FE0-5A33-4E1D-A934-ECEDF0EA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AB5-2C49-4F95-9861-06D2B52A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9F8-1D19-43FC-BC75-23225F9D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BED-C085-40FC-AEAB-BCC3797D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718-155A-42F1-AB12-DE6511C9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6E2-2D6E-4CC7-A8F9-B50B8B4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E8D-63FF-43F8-9306-3E373FC0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C1E-769E-4855-BF8D-3D98011A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4711-57C0-4654-9184-B557C9134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sitively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(n) are not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negatively charged, found outside the nucleus, have a relative mass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18334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 net charge so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#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each element contain a different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tomic #, it’s the whole number of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25592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# =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#n  (protons plus neu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= weighted average.  Atoms of the same element can have a different number of neutrons =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topes of Hyd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tom has one prot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-1, hydrogen-2, hydroge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name – mas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_x000e_fg06_008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2286000"/>
            <a:ext cx="87631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the nucleus in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s define an area in space around the nucleus where the electron is likely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bital has a specific amount of energy =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st stable form of an atom, all electrons are in the lowest possible energy levels = groun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nergy moves the electrons from a lower energy state to a higher energ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gher energy level the electrons are said to be EXC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5603760" cy="245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747720" cy="88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55412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2:48Z</dcterms:created>
  <dc:creator>LCC Department</dc:creator>
  <dc:description/>
  <dc:language>en-US</dc:language>
  <cp:lastModifiedBy>LCC Department</cp:lastModifiedBy>
  <dcterms:modified xsi:type="dcterms:W3CDTF">2012-04-30T16:24:38Z</dcterms:modified>
  <cp:revision>2</cp:revision>
  <dc:subject/>
  <dc:title>Atoms, the fundamental and smallest particle of each element</dc:title>
</cp:coreProperties>
</file>