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D68-A1C0-480D-87E8-6A2E91F0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F1C-F4E7-4008-997D-C4179BC8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A35-0287-4CAE-A3EA-6E6CC77E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E2B-7167-4BE3-B83E-9F882808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23E-228E-4B52-BA08-9A526AE4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8AC-F1DA-473D-B7C9-CAA672EC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BFB-EEE7-4A65-B4FF-9B3C80E5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EA2-1D1C-463C-A05E-734B1D15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753-BCDF-4218-956C-E0E5F30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D81-38CF-48CC-8D3D-6B6BE56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4C3-771B-4122-A409-F1B43BDA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11B-4A6D-43C9-8087-038DBB7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10D5-224B-4D4C-AD04-9CBF6ED6E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114 Exa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, 4,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uide = chapter summ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activities, assignments, class discussion topic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(theory, procedure, data, calculations,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4559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1788840" cy="16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817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4:41Z</dcterms:created>
  <dc:creator>LCC Department</dc:creator>
  <dc:description/>
  <dc:language>en-US</dc:language>
  <cp:lastModifiedBy>LCC Department</cp:lastModifiedBy>
  <dcterms:modified xsi:type="dcterms:W3CDTF">2012-04-30T22:16:26Z</dcterms:modified>
  <cp:revision>2</cp:revision>
  <dc:subject/>
  <dc:title>CH114 Exam #1</dc:title>
</cp:coreProperties>
</file>