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7E89-15F0-47D0-9EA1-3723BB4C7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688F-DCF2-4976-B714-E9A87BAB1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F408-169F-4569-B406-40677DBFA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ADB2-69C5-4E65-BEC5-698888478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83DB-E5EB-4F6B-9CA0-214B8AB8A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1721-FE0F-4D64-9F0C-0D1CE3604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8C24-EE13-4943-B8E3-5DB174892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AFBB-A734-4554-AD04-342ADB551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B2C2-D001-465E-A55C-C424B6B72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7728-A1D9-4D75-8560-A00C809F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30DD-CF31-4358-8416-2E924552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67BC-CD54-4F27-ABE5-04FFDA3B7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4BE5B-F73C-4DCC-97EB-56B74722DC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vious Exam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efly explain the purpose of a standard or reference sample. Give an example and include where the reference or standard would be collected from and how the sample would be used by a forensic scientist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105520" y="4572000"/>
            <a:ext cx="1827000" cy="1820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523880" y="4800600"/>
            <a:ext cx="1374840" cy="13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earn full credi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the purpose of a standard or reference s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an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 where the reference or standard would be collected f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he sample would be used by a forensic scient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629400" y="4838760"/>
            <a:ext cx="251460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Key Respo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standard or reference sample is a pure sample of known identity. It provides the forensic scientist a “known” for comparison of other samples collected from the suspect or crime scene.  A pure, known sample of a drug or a piece of glass collected from a broken window at a crime scene would be examp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543800" y="304920"/>
            <a:ext cx="1374840" cy="13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int Breakd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pos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standard or reference sample is a pure sample of known identity. It provides the forensic scientist a “known” for comparison of other samples collected from the suspect or crime sc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pure, known sample of a drug or a piece of gla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543800" y="5067360"/>
            <a:ext cx="142416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int Breakd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ed from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llected from a broken window at a crime sce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ensic scientist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ares other samples collected from the suspect or crime scene to reference s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324480" y="4572000"/>
            <a:ext cx="1567080" cy="17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2T16:25:32Z</dcterms:created>
  <dc:creator>LCC Department</dc:creator>
  <dc:description/>
  <dc:language>en-US</dc:language>
  <cp:lastModifiedBy>LCC Department</cp:lastModifiedBy>
  <dcterms:modified xsi:type="dcterms:W3CDTF">2012-05-02T16:31:30Z</dcterms:modified>
  <cp:revision>2</cp:revision>
  <dc:subject/>
  <dc:title>Previous Exam Question</dc:title>
</cp:coreProperties>
</file>