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500D-C089-4BE2-8B8A-16542BAD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6DA2-A9BE-42E2-9A4B-A819C907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12D0-0B54-4B6E-8FF8-4A424ED3F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F51E-FEEE-40E0-B6A2-6F96E84F5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7ADF-47C8-4E46-8E3D-5FAB3BF3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6DAC-5613-425B-BD21-905013A2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F41F-F37F-4F55-82CB-FDB15719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F2DA-D449-454C-847A-A92314B7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C09C-0AF7-4335-B9B1-7EAF7B11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4644-2A35-4CA6-862A-48041789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1F35-E957-403C-8B0F-63F8BF9F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054B-D44E-4A10-AC83-01053235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C433-7DA7-4E42-8537-5B1D476F8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i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 = any disintegrated surface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or arti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rocks, minerals, vegetation and animal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includes manufactured goods such as glass, paint chips, asphalt, brick or cinder fra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materials my impart soil with characteristics unique to a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19922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r more elements can combine to form a 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ound has different physical and chemical properties than its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youtube.com/watch?v=Mx5JJWI2a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581280" y="3581280"/>
            <a:ext cx="1919520" cy="1370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38080" y="3581280"/>
            <a:ext cx="191952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 is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is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in a compound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ed by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6 million identified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2843280" cy="1152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352680" y="2133720"/>
            <a:ext cx="1919520" cy="1919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019920" y="3886200"/>
            <a:ext cx="16542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hange state change the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733920" y="2971800"/>
            <a:ext cx="1612800" cy="1828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666880" y="1371600"/>
            <a:ext cx="1755720" cy="1430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943600" y="20574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soil valuable physical evid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alence at crime sc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ability between scene and sus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s my provi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ssociative evi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nking a suspect or object to a crime sc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gradient in not a definitive test. 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10280" y="685800"/>
            <a:ext cx="1865520" cy="1670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9880" y="4876920"/>
            <a:ext cx="244008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i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oils from different locations yield similar dens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oils can be differentiated and distinguished by gross appearance in a side by side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 1100 distinguishable soil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croscopic analysis, # compara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ints and frequency of occur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96080" y="4191120"/>
            <a:ext cx="113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ltimate value of soil evid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gradients are useful for comparisons when used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ation with other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timate value of soil depends on its variations at the crime scene; every 10 to 100 yard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703920" y="1295280"/>
            <a:ext cx="2440080" cy="1830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400800" y="4343400"/>
            <a:ext cx="173520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on of Soi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s are collected at regular intervals within 100 yard radius of crime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s are collected at alibi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s are representative of soil removed from suspect; top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ablespoon is all that’s required for a comparativ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aged and labeled in individual plastic v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486400" y="5410080"/>
            <a:ext cx="182232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zing Chemical Properties of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: fundamental buil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s of all substances; matter’s simplest 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9 naturally occurring element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nged on periodic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elements has a one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letter symbol, first letter is capitalized, second letter is lowe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is classified as organic or inorg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324480" y="2743200"/>
            <a:ext cx="2559240" cy="1833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705720" y="762120"/>
            <a:ext cx="189684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1"/>
          <p:cNvSpPr/>
          <p:nvPr/>
        </p:nvSpPr>
        <p:spPr>
          <a:xfrm>
            <a:off x="8686800" y="720576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D2DB-C469-4AD5-B82D-6346837775E5}" type="slidenum">
              <a:rPr b="0" lang="en-US" sz="1200" spc="-1" strike="noStrike">
                <a:solidFill>
                  <a:srgbClr val="6666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527560" y="6215040"/>
            <a:ext cx="41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Figure 5–1  The periodic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1"/>
          <p:cNvSpPr/>
          <p:nvPr/>
        </p:nvSpPr>
        <p:spPr>
          <a:xfrm>
            <a:off x="8686800" y="6553080"/>
            <a:ext cx="457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2944-125F-4230-B1F8-1E01B3AA37EF}" type="slidenum">
              <a:rPr b="0" lang="en-US" sz="1200" spc="-1" strike="noStrike">
                <a:solidFill>
                  <a:srgbClr val="6666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527560" y="5562720"/>
            <a:ext cx="41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Figure 5–1  The periodic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_x000e_fg05_001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685800" y="1447920"/>
            <a:ext cx="7848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c versus Inorga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: contains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organic: does not contain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2558880" cy="1827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553080" y="1371600"/>
            <a:ext cx="2184480" cy="1903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715000" y="4724280"/>
            <a:ext cx="255888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nged on periodic table in a systematic way; elements with similar chemical properties are in groups (= colum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st particle of an element =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867280" y="3886200"/>
            <a:ext cx="2340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6:18:36Z</dcterms:created>
  <dc:creator>LCC Department</dc:creator>
  <dc:description/>
  <dc:language>en-US</dc:language>
  <cp:lastModifiedBy>LCC Department</cp:lastModifiedBy>
  <dcterms:modified xsi:type="dcterms:W3CDTF">2012-04-17T16:34:04Z</dcterms:modified>
  <cp:revision>26</cp:revision>
  <dc:subject/>
  <dc:title>Soil Evidence</dc:title>
</cp:coreProperties>
</file>