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7.png" ContentType="image/png"/>
  <Override PartName="/ppt/media/image15.wmf" ContentType="image/x-wmf"/>
  <Override PartName="/ppt/media/image18.wmf" ContentType="image/x-wmf"/>
  <Override PartName="/ppt/media/image1.png" ContentType="image/png"/>
  <Override PartName="/ppt/media/image17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73D-FA41-4B36-AC44-7862C96E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614-AE53-457C-A8FC-FCC545D1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1BF-9F4D-4FB3-A68D-2308B8BA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1A2-4DA5-4C5A-93D1-E41E81A3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83F-DFC6-4106-BD64-D4C987DB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05C-7BBD-4410-8635-B91B50E4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BF5-1945-4662-9BD2-BBAD8391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847-5288-46C3-A542-877FFF69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603-E228-442C-A2D8-683FAE6A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ECA-0128-4DBA-85CB-7871473D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5C4-7941-4DBA-B28E-90DB140F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DBAF-198A-4A4B-B303-DC7FFB0B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EEAF-6405-4B0A-B21E-B82AA8A4D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tical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identify or compare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echniques exist for organic or inorganic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nalysis in a forensic lab involves organic analysis (chapter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1763640" cy="1806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33920" y="4495680"/>
            <a:ext cx="1538280" cy="181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270920" y="609480"/>
            <a:ext cx="18730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light is absorb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must now be described as discrete particles called pho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of a photon (E) = h *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greater the frequenc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, the greater th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photomet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the quantity of radiation a material absorbs as a function of wavelength or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_x000e_fg05_017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2286000"/>
            <a:ext cx="7578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light sources for forensic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le, infrared (IR), ultraviolet (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s a “fingerprint” for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1143000" y="2286000"/>
            <a:ext cx="59054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and visible spectrums are simple compared to IR spectrums, provide probable ID, TLC or GC confi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spectrum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spectrum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5-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_x000e_fg05_01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114800" y="3200400"/>
            <a:ext cx="47433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spectr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is bombarded with high energy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ly charged ions form = 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s are unstable, decompose to fragments, pass through an electric or magnetic field, separate based on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8144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s spectrum of heroin (top) and cocaine (botto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_x000e_fg05_021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1447920"/>
            <a:ext cx="61610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spectr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important tools in foren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o small concen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t use: drug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_x000e_fg05_022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304920" y="3276720"/>
            <a:ext cx="84963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 Mass S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separate mixture, mass spec provides identification of mixtur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carefully controlled conditions, no two substances produce the same fragmentation pat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finger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_x000e_fg05_020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038480" y="4281480"/>
            <a:ext cx="47358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 Mass spe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_x000e_fg05_020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1905120"/>
            <a:ext cx="82821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-ext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 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 Mass sp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 bonds in organic compounds can be easily characterized by their absorption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rophotometry: study of the absorption of light by chemica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s and identifies organic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nalyze a substance, it must be relatively p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7800" y="609480"/>
            <a:ext cx="33274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phot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 the absorption of light by chemica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zes and identifies organic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25146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n passing through a prism, the light will separate into a spectrum of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1719000" cy="171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0800000">
            <a:off x="3428640" y="2971800"/>
            <a:ext cx="30351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an object appear yel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hite light passes through the object all colors are absorbed except for the yellow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yellow light is reflected by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ure of light: 2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continuous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stream of continuous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_x000e_fg05_014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2057400" y="2209680"/>
            <a:ext cx="4737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ve nature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ngth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distance between two consecutive crests or troughs of a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equenc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# crests or troughs passing a given point in a unit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ts are cycles per second or Hertz (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_x000e_fg05_014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2743200"/>
            <a:ext cx="2833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length and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*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c = speed of light in a vacuum = 3.00*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 wavelength increases, frequency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colors of light have different wavelengths and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467480" y="990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2514600"/>
            <a:ext cx="73310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8:36Z</dcterms:created>
  <dc:creator>LCC Department</dc:creator>
  <dc:description/>
  <dc:language>en-US</dc:language>
  <cp:lastModifiedBy>LCC Department</cp:lastModifiedBy>
  <dcterms:modified xsi:type="dcterms:W3CDTF">2011-04-19T18:23:28Z</dcterms:modified>
  <cp:revision>34</cp:revision>
  <dc:subject/>
  <dc:title>Soil Evidence</dc:title>
</cp:coreProperties>
</file>