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5EC-2D14-406B-8300-C6662881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514-9EF5-4C83-BCC1-CA444D1F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4E1-6170-4F6D-AF3E-B0702683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B9A-3A44-478A-88E0-FD0A8ED3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464-36DF-4634-A544-D4F92942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7DF-3250-474C-B245-F6D99FCE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5D9-8EB4-4F36-9D3C-F20697CD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0E5-84F4-4C24-8B4C-1CC163E8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9C8-7662-4172-912D-02F6918B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9B2-51A7-48F9-86B7-ACA58736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821-5F6E-40A8-AFE8-78352A9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C8F-123C-40DA-A172-F1263E2D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5C41-DE1C-4248-9C78-3F9DCE43D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sitively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(n) are not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negatively charged, found outside the nucleus, have a relative mass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8334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net charge so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#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each element contain a different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tomic #, it’s the whole number of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25592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# =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#n  (protons plus neu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= weighted average.  Atoms of the same element can have a different number of neutrons =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opes of Hyd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om has one pro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-1, hydrogen-2, hydroge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name – mas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_x000e_fg06_008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286000"/>
            <a:ext cx="8763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nucleus in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s define an area in space around the nucleus where the electron is likely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bital has a specific amount of energy =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st stable form of an atom, all electrons are in the lowest possible energy levels = grou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nergy moves the electrons from a lower energy state to a higher energ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gher energy level the electrons are said to be EX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603760" cy="24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74772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554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2:48Z</dcterms:created>
  <dc:creator>LCC Department</dc:creator>
  <dc:description/>
  <dc:language>en-US</dc:language>
  <cp:lastModifiedBy>LCC Department</cp:lastModifiedBy>
  <dcterms:modified xsi:type="dcterms:W3CDTF">2012-04-30T16:24:38Z</dcterms:modified>
  <cp:revision>2</cp:revision>
  <dc:subject/>
  <dc:title>Atoms, the fundamental and smallest particle of each element</dc:title>
</cp:coreProperties>
</file>