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ABC-6BB6-4930-8E73-F0179E2A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582-A496-4BB2-BAC1-67107F07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E69-E5D7-4A32-B9A2-65625922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D13-4E0B-4557-A9A2-ACAED7CB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B68-6725-44F9-B5A2-1854EAE7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E18F-9A22-4277-B15B-51867450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7E2-A5F9-4157-84CC-8DBD071A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349-74E5-4430-BC4D-9789E331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E7B-72DC-457B-B4AD-A053D44B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8E18-3737-4D3A-A1B0-64B52B7E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84D-D8A6-41C9-832D-F0D73101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E5A6-B523-4ACD-B31B-BFBF1BA8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B97D-388F-4C84-95DD-E9ABEB307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114 Exam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s 1, 4, 5 a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guide = chapter summa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activities, assignments, class discussion topics, PowerPoint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s (theory, procedure, data, calculations, ques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245592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4952880"/>
            <a:ext cx="1788840" cy="164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24480" y="1371600"/>
            <a:ext cx="18176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6:04:41Z</dcterms:created>
  <dc:creator>LCC Department</dc:creator>
  <dc:description/>
  <dc:language>en-US</dc:language>
  <cp:lastModifiedBy>LCC Department</cp:lastModifiedBy>
  <dcterms:modified xsi:type="dcterms:W3CDTF">2012-04-30T22:16:26Z</dcterms:modified>
  <cp:revision>2</cp:revision>
  <dc:subject/>
  <dc:title>CH114 Exam #1</dc:title>
</cp:coreProperties>
</file>