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jpeg" ContentType="image/jpeg"/>
  <Override PartName="/ppt/media/image7.wmf" ContentType="image/x-wmf"/>
  <Override PartName="/ppt/media/image11.png" ContentType="image/png"/>
  <Override PartName="/ppt/media/image10.wmf" ContentType="image/x-wmf"/>
  <Override PartName="/ppt/media/image6.png" ContentType="image/png"/>
  <Override PartName="/ppt/media/image5.wmf" ContentType="image/x-wmf"/>
  <Override PartName="/ppt/media/image4.png" ContentType="image/png"/>
  <Override PartName="/ppt/media/image27.png" ContentType="image/png"/>
  <Override PartName="/ppt/media/image3.wmf" ContentType="image/x-wmf"/>
  <Override PartName="/ppt/media/image26.wmf" ContentType="image/x-wmf"/>
  <Override PartName="/ppt/media/image23.png" ContentType="image/png"/>
  <Override PartName="/ppt/media/image22.jpeg" ContentType="image/jpeg"/>
  <Override PartName="/ppt/media/image2.wmf" ContentType="image/x-wmf"/>
  <Override PartName="/ppt/media/image25.wmf" ContentType="image/x-wmf"/>
  <Override PartName="/ppt/media/image21.jpeg" ContentType="image/jpeg"/>
  <Override PartName="/ppt/media/image20.wmf" ContentType="image/x-wmf"/>
  <Override PartName="/ppt/media/image19.wmf" ContentType="image/x-wmf"/>
  <Override PartName="/ppt/media/image15.png" ContentType="image/png"/>
  <Override PartName="/ppt/media/image28.jpeg" ContentType="image/jpeg"/>
  <Override PartName="/ppt/media/image18.png" ContentType="image/png"/>
  <Override PartName="/ppt/media/image17.png" ContentType="image/png"/>
  <Override PartName="/ppt/media/image16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B4B3-814B-4DEB-955C-A435072A7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8919-58F5-4A3D-AA56-6DB19FAF7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2D8F-2585-4139-8CCA-87C379890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084D-9C9A-4351-99F9-2B47A9A7B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3AB0-20F1-47EA-879A-D734A1CEE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016A-2F1A-44D2-B77E-1B703D430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B8EB-C584-4046-B8A2-CB2BDE9FB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A64B-B741-49FC-9D9C-371145727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DB47-D7E0-4820-8188-60ACB574C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8F67-3406-4621-B5C6-F1EB718B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CEDD-DB87-4852-8576-335319A6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D460-B29E-40B8-9314-85515F0C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96496-DA23-4CF2-837D-4B18FD8461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organic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43000" y="3733920"/>
            <a:ext cx="1862280" cy="1876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962520" y="4800600"/>
            <a:ext cx="919080" cy="928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838080" y="990720"/>
            <a:ext cx="3038760" cy="954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791320" y="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7010280" y="2286000"/>
            <a:ext cx="1827360" cy="1111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304920" y="21337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6629400" y="3048120"/>
            <a:ext cx="22082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organic Analysis Techni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tron Activation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men is bombarded with neutrons and resulting gamma ray radioactivity is measu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ondestructive method for identifying and quantitating trace elements down to 1 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to 30 elements can be analyzed simultaneous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_x000e_fg06_00900.jpg                                                 0002956B_x000c_Macintosh HD                   ABA78158:"/>
          <p:cNvPicPr/>
          <p:nvPr/>
        </p:nvPicPr>
        <p:blipFill>
          <a:blip r:embed="rId1"/>
          <a:stretch/>
        </p:blipFill>
        <p:spPr>
          <a:xfrm>
            <a:off x="1828800" y="2819520"/>
            <a:ext cx="4753080" cy="196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utron Activation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regulatory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phisticated analyzers are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w crime labs have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019920" y="35812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676520" y="4495680"/>
            <a:ext cx="292896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eam of x-rays is aimed at a crys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studying how the X-rays interact with the atoms in the substance an identification can be m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tance must be solid and crystalline of which 95% of inorganic substances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compound produces a unique diffractio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934320" y="5334120"/>
            <a:ext cx="1825560" cy="1368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85800" y="0"/>
            <a:ext cx="3649680" cy="1682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7086600" y="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-ra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ffr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ed specimen X-ray pattern can be compared to known X-ray pattern for a quick and specific identity deter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 6-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ray diffraction does lack sensitivity so it works well for major components but not trace elements (present at &lt;5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_x000e_fg06_01000.jpg                                                 0002956B_x000c_Macintosh HD                   ABA78158:"/>
          <p:cNvPicPr/>
          <p:nvPr/>
        </p:nvPicPr>
        <p:blipFill>
          <a:blip r:embed="rId1"/>
          <a:stretch/>
        </p:blipFill>
        <p:spPr>
          <a:xfrm>
            <a:off x="3886200" y="380880"/>
            <a:ext cx="4726080" cy="20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organ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carbon containing sub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manufactured goods contain small quantities of elements present in concentrations of less than 1% = trac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2558880" cy="1827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8120" y="4495680"/>
            <a:ext cx="2558880" cy="1827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172200" y="304920"/>
            <a:ext cx="2558880" cy="18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ce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Invisible mar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establish the source of the material or at least more points for compa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s selectively absorb and emit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371600" y="3733920"/>
            <a:ext cx="4772160" cy="28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ission spectro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emitted from an element sour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passed through a prism, it separates into component colors or frequ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emission spectrum or line spectrum is a finger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_x000e_fg06_00200.jpg                                                 0002956B_x000c_Macintosh HD                   ABA78158:"/>
          <p:cNvPicPr/>
          <p:nvPr/>
        </p:nvPicPr>
        <p:blipFill>
          <a:blip r:embed="rId1"/>
          <a:stretch/>
        </p:blipFill>
        <p:spPr>
          <a:xfrm>
            <a:off x="2971800" y="3733920"/>
            <a:ext cx="5667480" cy="2531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391520" y="380880"/>
            <a:ext cx="160308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 Spectr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et to an excited state, energy is added in the form of electricity or 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219320" y="2971800"/>
            <a:ext cx="7495920" cy="3281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086600" y="21337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80880" y="228600"/>
            <a:ext cx="10144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 spectr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sunlight we see a continuous spect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line spectrum, each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a definite wavelength and frequ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705720" y="16765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0" y="3886200"/>
            <a:ext cx="441972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omic Absor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of atoms is vapor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orbs many of the same frequencies of light emitted when in an excited 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selective absorption of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used to determine concen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 6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943600" y="44956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igin of Emission and Absorption Spect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s, the fundamental and smallest particle of each e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atomic partic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tr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724280" y="2819520"/>
            <a:ext cx="4214880" cy="37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io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table isotopes decompose with time and emit rad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types of radi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pha particles (helium atom with no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particles (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mma ray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_x000e_fg05_015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3657600" y="4343400"/>
            <a:ext cx="4735440" cy="21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25:14Z</dcterms:created>
  <dc:creator>LCC Department</dc:creator>
  <dc:description/>
  <dc:language>en-US</dc:language>
  <cp:lastModifiedBy>LCC Department</cp:lastModifiedBy>
  <dcterms:modified xsi:type="dcterms:W3CDTF">2012-04-30T16:24:24Z</dcterms:modified>
  <cp:revision>18</cp:revision>
  <dc:subject/>
  <dc:title>Inorganic Analysis</dc:title>
</cp:coreProperties>
</file>