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2C6-AB10-4BB2-9D10-4ACE4C1A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615-6AC2-48EC-864A-90E79032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3EC-EB95-499C-92A4-E160722C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BED-1B7F-4287-99B7-8D5FE82E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03A-F45E-402F-AC30-732325C0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621-B2FD-427E-9763-DB958595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66D-8F3C-4EC1-8D41-8A8377FA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688-36FB-462E-A138-33CFE8FF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EE0-669A-4FA7-9542-770C71DC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1AB-C47B-45B8-AA98-B96A2D38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D5E-5006-435F-9B18-AC4871F9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092-B655-42A1-B303-C66AD67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D9C7-CB5C-4A4F-B604-A17191796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two objects come into contact with one another, there is an exchange of materials betwee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cross transfer of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minal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4829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Types of Physical Evidence for CH 1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367000" cy="182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177624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mon Types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ody fluids such as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394000" cy="20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4495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ation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ication,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hysical or chemical identity of a substance with as near absolute certainty as existing analytical techniques will 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vidence share a common origin with a standard or reference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sample collected from a suspect is compared to a sample collected from the crime sc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characteriz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s sample collected from the suspect is compared to glass samples collected from the crim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3463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s find and measure properties associating one glass fragment with another while minimizing or eliminating othe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vidential value when a fragment can be individualized to on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he physical matching of crime scene and suspect glass (they fit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7193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pieces don’t fit togeth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sition of window glass does not vary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elements have been found helpful for narrowing the origin of the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 and density are class characteristics; they cannot provide the sole criteria for individualizing glass to a common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15000" y="5275440"/>
            <a:ext cx="27781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refractive index and density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analyst sufficient data to evaluate the significance of a glass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ence of comparable density and refractive index will exclude fragments originating from different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098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11:10Z</dcterms:created>
  <dc:creator>LCC Department</dc:creator>
  <dc:description/>
  <dc:language>en-US</dc:language>
  <cp:lastModifiedBy>LCC Department</cp:lastModifiedBy>
  <dcterms:modified xsi:type="dcterms:W3CDTF">2011-04-06T16:39:26Z</dcterms:modified>
  <cp:revision>7</cp:revision>
  <dc:subject/>
  <dc:title>Locard’s Exchange Principle</dc:title>
</cp:coreProperties>
</file>