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BF1-1E2F-45FB-AE3E-8F3FA7F4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EBA-E2A7-4576-9FE8-A558A84A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FDB-1EBC-428F-A7D6-82741BE1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1EE-7356-49AA-94BB-BFEE576C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966-6F0B-4654-A787-36F5D7D4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F1E-2DAF-47D8-9747-25DBB264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029-0C20-4802-98AB-166DF288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A47-302F-4502-B1FF-12F6CC0D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CFE-D548-45A9-9C45-A90131AF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D90-1D69-4E9C-B142-B389C380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9D4-472E-4D93-B248-3B36910F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640-A481-4742-B9FA-D100C711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9D2A-1DC5-41AA-AB58-BD7D65717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xam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explain the purpose of a standard or reference sample. Give an example and include where the reference or standard would be collected from and how the sample would be used by a forensic scienti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4572000"/>
            <a:ext cx="1827000" cy="182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3880" y="480060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earn full credi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purpose of a standard or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where the reference or standard would be collected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sample would be used by a forensic 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9400" y="483876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Key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.  A pure, known sample of a drug or a piece of glass collected from a broken window at a crime scene would be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ure, known sample of a drug or a piece of g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43800" y="5067360"/>
            <a:ext cx="14241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from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ed from a broken window at a crime sc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s other samples collected from the suspect or crime scene to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15670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6:25:32Z</dcterms:created>
  <dc:creator>LCC Department</dc:creator>
  <dc:description/>
  <dc:language>en-US</dc:language>
  <cp:lastModifiedBy>LCC Department</cp:lastModifiedBy>
  <dcterms:modified xsi:type="dcterms:W3CDTF">2012-05-02T16:31:30Z</dcterms:modified>
  <cp:revision>2</cp:revision>
  <dc:subject/>
  <dc:title>Previous Exam Question</dc:title>
</cp:coreProperties>
</file>