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951-9B72-4F69-92C6-6E2FCE26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FAD-3AF6-4F04-84E6-AA4626CB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5DB-B447-4686-B814-C23F6B50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358-9DCC-4AEF-B86E-20B67603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EDD-1A40-4ABF-9327-035CCB07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A89-D0AB-4F38-B32C-6E13156D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FFD-592C-4D87-94D4-C32CDAC1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72C-C33E-4A5D-8A00-EA2D4684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A7A6-D8A4-482C-8563-4D7DA9F9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604-BD14-406E-8E5F-8DA079A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BE8-57E9-4578-9CFC-7A8F6326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A2B-3CEC-482A-97DE-7B55A556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BC03-419B-4876-9BC1-1F0518FE2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= any disintegrated surfac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or 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rocks, minerals, vegetation and animal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includes manufactured goods such as glass, paint chips, asphalt, brick or cinder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materials my impart soil with characteristics unique to a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9922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elements can combine to form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has different physical and chemical properties than its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Mx5JJWI2a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919520" cy="1370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19195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is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i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in a compound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by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6 million identifie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843280" cy="115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1654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nge state change th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66880" y="1371600"/>
            <a:ext cx="1755720" cy="14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9436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soil valuable physical evid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at crime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ability between scene and su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my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sociative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king a suspect or object to a crime sc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 in not a definitive test. 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865520" cy="1670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9880" y="4876920"/>
            <a:ext cx="2440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oils from different locations yield similar dens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oils can be differentiated and distinguished by gross appearance in a side by side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1100 distinguishable soil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copic analysis, # compar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s and frequency of oc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96080" y="41911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timate value of soil evid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s are useful for comparisons when us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with other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 value of soil depends on its variations at the crime scene; every 10 to 100 yard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03920" y="1295280"/>
            <a:ext cx="2440080" cy="183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00800" y="4343400"/>
            <a:ext cx="17352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of 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are collected at regular intervals within 100 yard radius of crim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collected at alibi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representative of soil removed from suspect; top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ablespoon is all that’s required for a compar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d and labeled in individual plastic v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86400" y="5410080"/>
            <a:ext cx="18223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ing Chemical Properties of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: fundamental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all substances; matter’s simplest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 naturally occurring elemen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d on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s has a on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letter symbol, first letter is capitalized, second letter is low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is classified as organic or inorg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24480" y="2743200"/>
            <a:ext cx="255924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05720" y="76212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8686800" y="720576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0CBF-C1CF-42B9-916D-15CB0BBA14DE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27560" y="621504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8686800" y="65530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631D-0D91-4A05-9D1B-8064F463163A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527560" y="556272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_x000e_fg05_00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685800" y="1447920"/>
            <a:ext cx="784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versus 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: contain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rganic: does not contain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53080" y="1371600"/>
            <a:ext cx="2184480" cy="190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558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d on periodic table in a systematic way; elements with similar chemical properties are in groups (= colum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st particle of an element =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234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2-04-17T16:34:04Z</dcterms:modified>
  <cp:revision>26</cp:revision>
  <dc:subject/>
  <dc:title>Soil Evidence</dc:title>
</cp:coreProperties>
</file>