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2E5-4952-43B9-8D3F-0B92D071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16D-13EB-411F-B7DB-B4ED5299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6E6-B2FD-460F-B5AA-696543FE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A4D-A791-4042-99F0-BBDA950A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A35-2EB5-42F5-91DF-9A78BCB3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644-1739-46A4-B049-004D231A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B46-0BD3-44AD-B334-B2D6C21D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A80-1E27-4C04-BEFB-44BAD83B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C7D-3C9B-4714-8902-E04643A8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F18-D72F-43A8-8997-54BB728C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C9D-A2E4-4D11-921E-4A43132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0EC-0F8C-4192-AF0F-91700FE1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05FC-9986-4FE0-B352-777DF6BC7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sitively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(n) are not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negatively charged, found outside the nucleus, have a relative mass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18334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 net charge so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#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each element contain a different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tomic #, it’s the whole number of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25592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# =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#n  (protons plus neu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= weighted average.  Atoms of the same element can have a different number of neutrons =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topes of Hyd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tom has one prot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-1, hydrogen-2, hydroge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name – mas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_x000e_fg06_008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2286000"/>
            <a:ext cx="87631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the nucleus in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s define an area in space around the nucleus where the electron is likely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bital has a specific amount of energy =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st stable form of an atom, all electrons are in the lowest possible energy levels = groun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nergy moves the electrons from a lower energy state to a higher energ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gher energy level the electrons are said to be EXC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5603760" cy="245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747720" cy="88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55412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2:48Z</dcterms:created>
  <dc:creator>LCC Department</dc:creator>
  <dc:description/>
  <dc:language>en-US</dc:language>
  <cp:lastModifiedBy>LCC Department</cp:lastModifiedBy>
  <dcterms:modified xsi:type="dcterms:W3CDTF">2012-04-30T16:24:38Z</dcterms:modified>
  <cp:revision>2</cp:revision>
  <dc:subject/>
  <dc:title>Atoms, the fundamental and smallest particle of each element</dc:title>
</cp:coreProperties>
</file>