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32.wmf" ContentType="image/x-wmf"/>
  <Override PartName="/ppt/media/image28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31.wmf" ContentType="image/x-wmf"/>
  <Override PartName="/ppt/media/image9.jpeg" ContentType="image/jpeg"/>
  <Override PartName="/ppt/media/image25.png" ContentType="image/png"/>
  <Override PartName="/ppt/media/image10.wmf" ContentType="image/x-wmf"/>
  <Override PartName="/ppt/media/image13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8.jpeg" ContentType="image/jpeg"/>
  <Override PartName="/ppt/media/image41.wmf" ContentType="image/x-wmf"/>
  <Override PartName="/ppt/media/image42.png" ContentType="image/png"/>
  <Override PartName="/ppt/media/image23.jpeg" ContentType="image/jpeg"/>
  <Override PartName="/ppt/media/image43.png" ContentType="image/png"/>
  <Override PartName="/ppt/media/image44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37.wmf" ContentType="image/x-wmf"/>
  <Override PartName="/ppt/media/image7.wmf" ContentType="image/x-wmf"/>
  <Override PartName="/ppt/media/image26.png" ContentType="image/png"/>
  <Override PartName="/ppt/media/image36.wmf" ContentType="image/x-wmf"/>
  <Override PartName="/ppt/media/image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.wmf" ContentType="image/x-wmf"/>
  <Override PartName="/ppt/media/image3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C3A8-182C-482B-BC87-0D80E840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CD68-61AB-4383-9509-2C19219A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F14-920C-49DA-84E9-82B7322E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448-33AC-4752-B2B1-CCFC6BFD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9C6B-A9DA-45A1-A524-EDD4ADB9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C82-2C38-4935-A969-178314AB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01B-A05A-4F47-8549-432C2DCB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03D-DBAE-4D85-9571-EAA48571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E65-7061-4B1E-B206-7B8E4FC7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A607-B868-4A51-B6C6-A0192AA2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C4D-9A71-4F1E-949E-381F3451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40A2-74EE-4016-A270-0AF43967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2C1F-7750-463C-8452-6266D4244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Se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is distinguishable by type and can be used to link a sample to an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 system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disastrous if different blood types are m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wo individuals, except twins were thought to have identical blood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factors are genetically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541600" cy="89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96080" y="609480"/>
            <a:ext cx="887400" cy="88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848720" y="3962520"/>
            <a:ext cx="814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12-1 or 10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447920"/>
          <a:ext cx="8229600" cy="3123720"/>
        </p:xfrm>
        <a:graphic>
          <a:graphicData uri="http://schemas.openxmlformats.org/drawingml/2006/table">
            <a:tbl>
              <a:tblPr/>
              <a:tblGrid>
                <a:gridCol w="1143000"/>
                <a:gridCol w="2895480"/>
                <a:gridCol w="2133720"/>
                <a:gridCol w="2057400"/>
              </a:tblGrid>
              <a:tr h="9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erum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erum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= reaction = agglutination, - = no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ID antibodies by adding cells with known anti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0120" y="380880"/>
            <a:ext cx="77616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ommon is each blood ty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table above. Which antibodies does each blood type contain and what will happen when A or B type cells ar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3014640"/>
        </p:xfrm>
        <a:graphic>
          <a:graphicData uri="http://schemas.openxmlformats.org/drawingml/2006/table">
            <a:tbl>
              <a:tblPr/>
              <a:tblGrid>
                <a:gridCol w="990720"/>
                <a:gridCol w="2301840"/>
                <a:gridCol w="1644480"/>
                <a:gridCol w="1646280"/>
                <a:gridCol w="1646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+ A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+ B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factor (+/-) must also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s the universal donor, AB is the universal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6553080" cy="2587680"/>
        </p:xfrm>
        <a:graphic>
          <a:graphicData uri="http://schemas.openxmlformats.org/drawingml/2006/table">
            <a:tbl>
              <a:tblPr/>
              <a:tblGrid>
                <a:gridCol w="1143000"/>
                <a:gridCol w="2895480"/>
                <a:gridCol w="251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te t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 from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1371600" cy="1625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81680" y="2133720"/>
            <a:ext cx="21114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nsic Characterization of Bloo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minalist a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ample bl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which species did the sample origin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uman, how closely is the sample associated with an individu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3272040" cy="2849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48520" y="533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23302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sample bl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color test i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lphthalein = Kastle-Meyer color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stain + reduced phenolphthalein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ample is blood, a deep p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forms just like on televis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specific test for blood beca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getables like potatoes al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pink, although it is highly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40640" y="533520"/>
            <a:ext cx="2403360" cy="1541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162920" y="5181480"/>
            <a:ext cx="1795320" cy="1424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569360" y="3124080"/>
            <a:ext cx="15746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the Kastle-Meyer test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in blood is a protein that transports oxygen and gives blood its red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possess peroxidase-like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oxidases are enzymes that accelerate oxidation of several organic compounds by pe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851040" cy="85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99240" y="990720"/>
            <a:ext cx="15447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liminary Color Tes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astix str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egon officers are not trained to use presumptive tests.  Why no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ficers are trained to collect swabs and submit them to the lab for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: produc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, not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197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mi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sprayed and viewed in a darkene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est, blood is still viewable after a 300 000x di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interfere with DNA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24480" y="4419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Luminol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 contain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only needs a catalyst or ac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 releases energy (blue light) when mixed with an oxidizing agent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an excited molecule is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ction rate is slow however iron in the blood serves as a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81480" y="5257800"/>
            <a:ext cx="29257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cataly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talyst speeds up a chemical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talyst is not consumed in a chemical reaction; it gets recyc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small amount of catalyst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3886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Se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occurrence of blood stains at cr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now used instead of blood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43624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if we think the sample is blood, how do we know for s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crystalline test: chemicals are added and characteristic crystals of hemoglobin derivative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stal tests are less sensitive than color tests and more susceptible to interference from contamin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for human protein or DNA amplification also confirm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84120" cy="1903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-53352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blood hu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recipitin test: an antibody reacts with an antigen to form a precip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antibodies for human and other animal blood are used such as dog, cat, d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_x000e_fg12_007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2666880"/>
            <a:ext cx="59230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ipiti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nsitive test, even diluted and aged samples re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figures 12-6, 12-7 or 10-8, 10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_x000e_fg12_007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2666880"/>
            <a:ext cx="71024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losely is the sample associated with an individu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now used however until the mid-90’s A-B-O typing wa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ubstances in blood were also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ymes = proteins that regulate bio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orphic enzymes exist in different forms and can be separated into components called iso-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veryone has the same iso-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4320" cy="181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726320" y="5662440"/>
            <a:ext cx="14176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 of Here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ally controlled traits are inherited from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heredity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development of specific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ed on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5880" y="4800600"/>
            <a:ext cx="1630440" cy="1538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153280" y="1981080"/>
            <a:ext cx="5335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like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ucleus of every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 human chromosomes in cells (23 pa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organized into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ve cells have only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mated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776240" cy="1630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7971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v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contains only a X chromosome (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ins either a X or Y chromosome (sh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determines the sex of a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s are XX, males are 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come together in pairs, so do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91520" y="2743200"/>
            <a:ext cx="1385640" cy="181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867280" y="5027760"/>
            <a:ext cx="11509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s: position a gene occupies on a chromosome; similarly positioned on chromosome for certain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: alternative forms of a gene located at the same point of a pair of chromosomes, ex. Blood types A, B, O; DNA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4724280"/>
            <a:ext cx="1511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up of similar genes, one inherited from mom, the other from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zygous: has two identical allelic genes on two corresponding positions of a chromosome pair, ex. AA or 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zygous: has two different allelic genes on two corresponding positions of a chromosome pair, ex. AO, BO,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077320" y="304920"/>
            <a:ext cx="106668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us gene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gene is domi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B are domi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s recessive (remains hid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 and AO are both possible gene pairs for type A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essive gene only shows when the pair is hom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781680" y="1447920"/>
            <a:ext cx="1225800" cy="1368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506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of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xture of cells, enzymes, proteins and inorg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a(55%): fluid portion of blood; mostly water, contains suspende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ended cells (45%): solid por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rocytes: red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ukocytes: white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4495680"/>
            <a:ext cx="25686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genetics te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type: a pair of allele genes together; can’t be determined by a lab test; also called a gene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s: characteristic chemical structures; unrelated to transporting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mpart blood-type characteristics, grouped into 15 different systems (A-B-O plus R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1880" y="1676520"/>
            <a:ext cx="533520" cy="1798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629400" y="5334120"/>
            <a:ext cx="851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ypes and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 blood has A antigens on the surface of the red blood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B blood has 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B  blood has both A                    and B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 blood has no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962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econd Fact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ce or absence of antigens determines bloo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 factor or D anti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+: D antigen i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-: D antigen is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lood banking, all three antigens must be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17398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type: outward characteristic, blood type of A, B, AB or O is an example; the physical manifestation of a trait, hair color is anoth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nett squares are helpful for determining possible genotype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’s genes go on one s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’s genes on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2920" y="4800600"/>
            <a:ext cx="1431720" cy="1755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178760" y="-380880"/>
            <a:ext cx="196524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gene can appear in a child unless the gene is present in at least one of the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’s genotype is the combination of a gene from each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paternity testing, not so much in criminal investigations, DNA is also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otypes and Geno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209680"/>
                <a:gridCol w="2667240"/>
                <a:gridCol w="33526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 G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 or 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 or B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ly expres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62920" y="2514600"/>
            <a:ext cx="1739880" cy="1808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153280" y="533520"/>
            <a:ext cx="7066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ossible blood types, both genotype and phenotype for a child with a father with A blood and a mother with O b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genotypes are possible with each blood phenoty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 Punnett square for each possible genotype combination for each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276640" cy="1601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28600" y="-228600"/>
            <a:ext cx="20210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the Nature of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lot: protein in plas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fibrin traps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al of clotted material =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um is the pale yellow liquid you see when you have your blood drawn (if you l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focus on the blood components directly related to forensics and blood identification: red blood cells and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142040" y="5486400"/>
            <a:ext cx="2001960" cy="15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04000" y="1066680"/>
            <a:ext cx="23400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lungs to body and remov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issues back to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surface of red blood cells are anit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ies attach to anti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ies are bivalent being they have two reactive sites so they can attach to antigens on two different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cross-linked cells = agglutin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23400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12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 Figure 10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_x000e_fg12_001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3429000" y="457200"/>
            <a:ext cx="5330880" cy="5791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280" y="3276720"/>
            <a:ext cx="2962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s and antibodies co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tibodies present are not specific for the antigen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at happens when foreign serum is ad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en-antibody reaction = agglut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3600" y="4724280"/>
            <a:ext cx="30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75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60548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335268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ie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 anti-A nor 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 A nor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anti-A and  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27664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y blood of different types should not be mix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typing/serology: study of antigen-antibody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tests: whole blood is typed using two antiserums, A and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do this in lab with imitation b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668600" cy="1406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5410080"/>
            <a:ext cx="36306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5:46:30Z</dcterms:created>
  <dc:creator>LCC Department</dc:creator>
  <dc:description/>
  <dc:language>en-US</dc:language>
  <cp:lastModifiedBy>LCC Department</cp:lastModifiedBy>
  <dcterms:modified xsi:type="dcterms:W3CDTF">2011-05-13T16:39:49Z</dcterms:modified>
  <cp:revision>46</cp:revision>
  <dc:subject/>
  <dc:title>Forensic Serology</dc:title>
</cp:coreProperties>
</file>