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0FF-5C83-49C4-9BF1-F381F99F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A7F-C5C2-4911-A350-B4783789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1CA-6FE6-47A7-A402-A7179E7E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F51-443B-4D02-B8AF-6527A8DB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47C-67AA-4E91-A4BE-9765309A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FA7-43C7-47F6-8712-33264F8E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0D8-A021-49F0-B165-9227C493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D94-15BC-4252-9544-09D28404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FAC-ED31-4448-A2F4-C5FB4D9A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D3D-3D72-4C17-98D3-5D2514B1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B55-EBA7-46E7-B46E-174A115A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079-94EF-4EB0-B6C2-581C75AC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EF47-2357-4360-A74A-53AA6E58A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rd’s Exchange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two objects come into contact with one another, there is an exchange of materials between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cross transfer of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9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minal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4829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Types of Physical Evidence for CH 1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and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367000" cy="182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177624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ommon Types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ody fluids such as 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ger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2394000" cy="20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4495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ation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ication,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hysical or chemical identity of a substance with as near absolute certainty as existing analytical techniques will 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vidence share a common origin with a standard or reference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sample collected from a suspect is compared to a sample collected from the crime sc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characteriz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s sample collected from the suspect is compared to glass samples collected from the crime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3463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s find and measure properties associating one glass fragment with another while minimizing or eliminating other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evidential value when a fragment can be individualized to on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he physical matching of crime scene and suspect glass (they fit tog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7193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he pieces don’t fit togeth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omposition of window glass does not vary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elements have been found helpful for narrowing the origin of the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 and density are class characteristics; they cannot provide the sole criteria for individualizing glass to a common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15000" y="5275440"/>
            <a:ext cx="27781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refractive index and density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analyst sufficient data to evaluate the significance of a glass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ence of comparable density and refractive index will exclude fragments originating from different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0988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11:10Z</dcterms:created>
  <dc:creator>LCC Department</dc:creator>
  <dc:description/>
  <dc:language>en-US</dc:language>
  <cp:lastModifiedBy>LCC Department</cp:lastModifiedBy>
  <dcterms:modified xsi:type="dcterms:W3CDTF">2011-04-06T16:39:26Z</dcterms:modified>
  <cp:revision>7</cp:revision>
  <dc:subject/>
  <dc:title>Locard’s Exchange Principle</dc:title>
</cp:coreProperties>
</file>