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00B-3104-4D0B-A024-480162D1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594-F896-4545-A934-8628E0C6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C3C-06CA-44E8-935B-BDC37192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E3D2-8575-4877-B42B-546D0CB4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EA1-811C-4CDC-8220-35A5B3E5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8E69-39A7-4B76-A7BE-26488CE8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235-CEBB-4A90-BEA9-2EAC945D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FBB-08EB-411D-90A5-323BE337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E16-49F3-42FF-B6D8-C37F40D4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DCF-AE01-4BE0-8177-A68BF07A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E0A-5A58-4EF0-BCFF-8F18C76C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8D6-6673-4716-ABCB-F7B71099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B927-D3EC-4717-80B7-9811EE79F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= any disintegrated surfac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or arti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rocks, minerals, vegetation and animal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includes manufactured goods such as glass, paint chips, asphalt, brick or cinder fra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materials my impart soil with characteristics unique to a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19922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elements can combine to form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has different physical and chemical properties than its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Mx5JJWI2a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1919520" cy="1370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19195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is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i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in a compound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 by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6 million identifie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843280" cy="115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1919520" cy="1919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1654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ange state change the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733920" y="2971800"/>
            <a:ext cx="161280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66880" y="1371600"/>
            <a:ext cx="1755720" cy="14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9436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soil valuable physical evid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at crime sc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ability between scene and su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my 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sociative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nking a suspect or object to a crime sc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gradient in not a definitive test. 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865520" cy="1670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9880" y="4876920"/>
            <a:ext cx="2440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oils from different locations yield similar dens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oils can be differentiated and distinguished by gross appearance in a side by side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1100 distinguishable soil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copic analysis, # compar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s and frequency of oc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96080" y="419112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ltimate value of soil evid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gradients are useful for comparisons when us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 with other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 value of soil depends on its variations at the crime scene; every 10 to 100 yard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03920" y="1295280"/>
            <a:ext cx="2440080" cy="1830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00800" y="4343400"/>
            <a:ext cx="17352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of 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are collected at regular intervals within 100 yard radius of crim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are collected at alibi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are representative of soil removed from suspect; top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ablespoon is all that’s required for a compar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d and labeled in individual plastic v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86400" y="5410080"/>
            <a:ext cx="18223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ing Chemical Properties of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: fundamental bui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all substances; matter’s simplest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 naturally occurring elemen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d on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s has a one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letter symbol, first letter is capitalized, second letter is low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is classified as organic or inorg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24480" y="2743200"/>
            <a:ext cx="2559240" cy="183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05720" y="762120"/>
            <a:ext cx="18968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8686800" y="720576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7DB6-A93D-45E0-A1F3-5F3C8F819F33}" type="slidenum">
              <a:rPr b="0" lang="en-US" sz="1200" spc="-1" strike="noStrike">
                <a:solidFill>
                  <a:srgbClr val="6666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27560" y="621504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igure 5–1  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8686800" y="655308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8987-130D-4232-A339-C290C91624BA}" type="slidenum">
              <a:rPr b="0" lang="en-US" sz="1200" spc="-1" strike="noStrike">
                <a:solidFill>
                  <a:srgbClr val="6666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527560" y="556272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igure 5–1  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_x000e_fg05_001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685800" y="1447920"/>
            <a:ext cx="784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versus 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: contain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rganic: does not contain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2558880" cy="182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553080" y="1371600"/>
            <a:ext cx="2184480" cy="1903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715000" y="4724280"/>
            <a:ext cx="2558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d on periodic table in a systematic way; elements with similar chemical properties are in groups (= colum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st particle of an element =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3886200"/>
            <a:ext cx="234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8:36Z</dcterms:created>
  <dc:creator>LCC Department</dc:creator>
  <dc:description/>
  <dc:language>en-US</dc:language>
  <cp:lastModifiedBy>LCC Department</cp:lastModifiedBy>
  <dcterms:modified xsi:type="dcterms:W3CDTF">2012-04-17T16:34:04Z</dcterms:modified>
  <cp:revision>26</cp:revision>
  <dc:subject/>
  <dc:title>Soil Evidence</dc:title>
</cp:coreProperties>
</file>