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372-D3F9-4BD8-B06F-4B5CFE46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2EC-2297-4D1D-A9AE-B25C007E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A44-2AAE-4E24-B95A-4BBD28C1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C5F-E0DF-41C3-AABB-D5912CF4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637-3A73-4A79-BF9E-746B21EC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FED-74B7-45EF-BBF0-3D8E154B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F4A-2345-422B-B079-C682D706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ADE-8BCD-4F55-8F64-44DE94D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2E5-4731-4D5D-B323-85C75A18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180-E76B-4FDB-9898-67BC63A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F9D-36A5-47C8-AFD0-386F0F0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5F9-8685-46A0-AC11-4944346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FF6-8D5B-4505-A451-D8D730DC1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identify or compar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echniques exist for organic or inorga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alysis in a forensic lab involves organic analysis (chapter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763640" cy="180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538280" cy="18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270920" y="609480"/>
            <a:ext cx="1873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light is absorb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ust now be described as discrete particles called pho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a photon (E) = h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r the 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greater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quantity of radiation a material absorbs as a function of wavelength 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_x000e_fg05_017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2286000"/>
            <a:ext cx="757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light sources for forens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, infrared (IR), ultraviolet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“fingerprint” for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2286000"/>
            <a:ext cx="5905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and visible spectrums are simple compared to IR spectrums, provide probable ID, TLC or GC con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spectru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pectru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_x000e_fg05_01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114800" y="3200400"/>
            <a:ext cx="4743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is bombarded with high energy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ly charged ions form = 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s are unstable, decompose to fragments, pass through an electric or magnetic field, separate based o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spectrum of heroin (top) and cocaine (bott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_x000e_fg05_02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447920"/>
            <a:ext cx="616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tools in fore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small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t use: drug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_x000e_fg05_022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3276720"/>
            <a:ext cx="8496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separate mixture, mass spec provides identification of mixtu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arefully controlled conditions, no two substances produce the same fragmentation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038480" y="4281480"/>
            <a:ext cx="47358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905120"/>
            <a:ext cx="8282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-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ass sp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bonds in organic compounds can be easily characterized by their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photometry: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a substance, it must be relatively p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27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passing through a prism, the light will separate into a spectrum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19000" cy="171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3428640" y="2971800"/>
            <a:ext cx="3035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n object appear ye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hite light passes through the object all colors are absorbed except for the yellow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light is reflected by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light: 2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continuous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stream of continuo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2057400" y="2209680"/>
            <a:ext cx="473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ve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distance between two consecutive crests or trough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# crests or troughs passing a given point in a uni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s are cycles per second or Hertz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2743200"/>
            <a:ext cx="2833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c = speed of light in a vacuum = 3.00*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wavelength increases, frequency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colors of light have different wavelengths an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514600"/>
            <a:ext cx="73310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1-04-19T18:23:28Z</dcterms:modified>
  <cp:revision>34</cp:revision>
  <dc:subject/>
  <dc:title>Soil Evidence</dc:title>
</cp:coreProperties>
</file>