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4.wmf" ContentType="image/x-wmf"/>
  <Override PartName="/ppt/media/image52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3.png" ContentType="image/png"/>
  <Override PartName="/ppt/media/image25.wmf" ContentType="image/x-wmf"/>
  <Override PartName="/ppt/media/image36.wmf" ContentType="image/x-wmf"/>
  <Override PartName="/ppt/media/image2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6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4.wmf" ContentType="image/x-wmf"/>
  <Override PartName="/ppt/media/image40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11F-E057-4111-883B-E6F38061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E8C-CE1F-4020-B016-9E17AE7E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0C9-3055-4B6F-A09C-35668230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224-590B-4A3F-A8F2-9895B99C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844-C037-46E8-96DE-177FF222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BA7-8FAC-4B98-9425-31FF758D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5C5-9F8F-476C-9913-D5DC77B2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CDF-BB48-4BD3-8758-9039AB26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07F-943F-4B5F-AAC2-14C76495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08A-6D91-427D-9253-473E8DBB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B38-B851-4C48-9A02-A98D8D8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E85-CA67-4ACE-B373-D16A133C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2D64-2DCB-4CE1-AADE-6318CAF5E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ist’s function: detect and identify relevant chemical materials collected at scene, reconstruct and identify igniters or deto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ests can not determine what was used to start a fire (rubbish or leaves) but can detect trace amounts of accelerants; many accidental fires leave no chemical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820800" cy="12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arted, combustion reactions produce enough heat to keep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, oxygen and heat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ition sources: electrical discharges, sparks, matches,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53080" y="4422600"/>
            <a:ext cx="232272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ing agents: supply oxygen, tak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we’ve work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(s)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2Fe(s)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in +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ycerin reaction is the source of ignition for the thermit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720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some oxidation reactions not accompanied by a f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must break and molecules must also collide with each other with the correc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molecules have greater kinetic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igh energy collis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RE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4427640"/>
            <a:ext cx="3684600" cy="24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95256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reaction speed =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he rate of combu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tate of the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s must be in the gaseous phase so molecules can collide frequently enough to support a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how do solid fuel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 b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6640" cy="163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189080" cy="24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 liquids and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temperatures, liquids vaporize then the vapors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point: the minimum temperature required for a liquid fuel to produce enough vapor to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lash point is reached, the fuel can be ignited by an outsid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temperature &gt; flas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must be high enough to decompose the solid into gaseous products = py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82736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gredients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seous fuel, oxygen, suffici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nsideration: gas fuel-ai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: range of possible gas or vapor fuel concentrations in air capable of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uel concentration is too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o high, it won’t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 for gasoline is 1.3 t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627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fuels burn without a fl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glowing combustion = red g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har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akes place on the surface of the solid fuel in the absence of heat high enough to pyrolyz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oxidation occurs because the fuel can’t vaporize, example iron 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restricted to the surface and limits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74600" cy="170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7952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Reac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ction rates double wit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rning is rapid because the temperature of the fuel-air mix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928880" cy="23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646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tarted by petroleum based accelerants, ex gas or kerosene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accelerant may evaporate within a few days so time i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permits the investigation to begin immediately even with out a war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ire must foc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fire’s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9216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82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tale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separate or unconnected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treamers (spread fire), ex gas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ntainers capable of holding accele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 ignition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ly shaped pattern on floor from poured acce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nd enter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82736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20880" cy="14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1296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t +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fuels produc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type: combustion and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ire produced just by mixing a fuel with 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13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normally travels upwards, often forms 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s, winds, secondary fires, physical arrangement of structures, stair-ways, elevator shafts, holes in floor, wall or roof can shift a fire’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flow to lowest point so severe low burning may indicate use of an acce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kely that traces of accelerant will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5030640"/>
            <a:ext cx="171288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43800" y="3429000"/>
            <a:ext cx="12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out th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ay slow the rate of 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ols and covers materials but does not affect lab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vapor detectors are an excellent screen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57320" cy="14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065320" cy="192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0"/>
            <a:ext cx="164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 and debris or anything that may contain flammable residues are collected in air tight containers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loss of residues through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bags are not used because the plastic will react with the hydrocarbons and permit volatiles to be de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, un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ust also be coll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ubst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413080" cy="96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89800" y="304920"/>
            <a:ext cx="1654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C to detect and characterize flammable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es are collected by heating the sealed container, vapor in the headspace is removed with a syringe and injected in to a 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with mass spec can identify components of the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: ga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: sample recovered from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_x000e_fg11_00800.jpg                                                 00029517_x000c_Macintosh HD                   ABA78158: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ly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ark is needed to start a fire (=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he capacity to do work or generat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nergy: heat, chemical, electrical, kinetic, potential, nuclear,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233360" cy="160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180684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81296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the bonds of the fuel is converted into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heat produced by a chemical reaction depends on the type of chemical bonds and the amount of fuel 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1792080" cy="14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3672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1230480" cy="18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1814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bustion of 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comes from breaking chemical bonds in reactants and forming new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emical reaction occurs, atoms are rearranged so like energy, mass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ustion of ethan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768600" cy="178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leased when bond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bond (single, double or triple) between different types of atoms has an experimentally determined bo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strength = energy required to break the bond or the energy released when the bon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5728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65420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5715000"/>
            <a:ext cx="1481400" cy="62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5334120"/>
            <a:ext cx="93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release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released when bonds in the products form than is needed to break the bonds in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warm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combustion reactions, neutraliz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56384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077320" y="609480"/>
            <a:ext cx="858600" cy="186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8079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absorb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needed to break the bonds in the reactants than is released when bonds in the produc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cold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ice packs in first-aid kits, cooking, he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2464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11160" cy="92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508644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609480"/>
            <a:ext cx="1827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a reaction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actions require an energy input to get started = a s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reactions have high energy barriers so a high temperature is required to start the oxid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1-2 or 14-1 lists ignition temperatures of severa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62240" cy="183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312408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1066680"/>
            <a:ext cx="1554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2-05-08T20:29:07Z</dcterms:modified>
  <cp:revision>33</cp:revision>
  <dc:subject/>
  <dc:title>Arson</dc:title>
</cp:coreProperties>
</file>