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F27F-196E-4861-9802-323DA7FB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E29B-1D0D-4083-87E9-C6F5FE8C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5502-E595-4996-8A55-1169305B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EFBB-9153-498C-B8EB-7B3E7A3F4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EEB6-A428-4837-AA2C-4885928C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9CED-8142-4A2D-AFCD-BA21D2FD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7045-4A4A-407F-92C2-B7CC84EC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C94F-82BB-4C64-9B0C-C49DD0F9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6550-E1B3-4AEB-9C8E-1D8E4D8C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CDDE-AF8D-4C81-B7AF-5D606E0E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E9B3-3CA4-42ED-A468-0FEF1FFE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E85A-9739-4BEF-8B9C-81CCD8C2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8926-8D5B-4DD3-9D56-6DBC502DA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oms, the fundamental and smallest particle of each el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atomic partic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421488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atomic p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(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re positively charged, found in the nucleus, have a relative mass of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ons (n) are not charged, found in the nucleus, have a relative mass of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(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re negatively charged, found outside the nucleus, have a relative mass of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05320" y="4800600"/>
            <a:ext cx="183348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no net charge so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#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of each element contain a different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tomic #, it’s the whole number of 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1080" y="3886200"/>
            <a:ext cx="25592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ato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# =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#n  (protons plus neutr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mass = weighted average.  Atoms of the same element can have a different number of neutrons = isot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255888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otopes of Hydr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atom has one prot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gen-1, hydrogen-2, hydrogen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name – mass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_x000e_fg06_008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0" y="2286000"/>
            <a:ext cx="87631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side the nucleus in orb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bitals define an area in space around the nucleus where the electron is likely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rbital has a specific amount of energy = energ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most stable form of an atom, all electrons are in the lowest possible energy levels = ground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05720" y="457200"/>
            <a:ext cx="18968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ing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energy moves the electrons from a lower energy state to a higher energy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higher energy level the electrons are said to be EXC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33720" y="4114800"/>
            <a:ext cx="5603760" cy="2452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772400" y="2286000"/>
            <a:ext cx="747720" cy="887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162920" y="3581280"/>
            <a:ext cx="155412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6:32:48Z</dcterms:created>
  <dc:creator>LCC Department</dc:creator>
  <dc:description/>
  <dc:language>en-US</dc:language>
  <cp:lastModifiedBy>LCC Department</cp:lastModifiedBy>
  <dcterms:modified xsi:type="dcterms:W3CDTF">2012-04-30T16:24:38Z</dcterms:modified>
  <cp:revision>2</cp:revision>
  <dc:subject/>
  <dc:title>Atoms, the fundamental and smallest particle of each element</dc:title>
</cp:coreProperties>
</file>