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32.wmf" ContentType="image/x-wmf"/>
  <Override PartName="/ppt/media/image28.jpeg" ContentType="image/jpeg"/>
  <Override PartName="/ppt/media/image24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4.jpeg" ContentType="image/jpeg"/>
  <Override PartName="/ppt/media/image1.wmf" ContentType="image/x-wmf"/>
  <Override PartName="/ppt/media/image31.wmf" ContentType="image/x-wmf"/>
  <Override PartName="/ppt/media/image9.jpeg" ContentType="image/jpeg"/>
  <Override PartName="/ppt/media/image25.png" ContentType="image/png"/>
  <Override PartName="/ppt/media/image10.wmf" ContentType="image/x-wmf"/>
  <Override PartName="/ppt/media/image13.wmf" ContentType="image/x-wmf"/>
  <Override PartName="/ppt/media/image34.wmf" ContentType="image/x-wmf"/>
  <Override PartName="/ppt/media/image35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8.jpeg" ContentType="image/jpeg"/>
  <Override PartName="/ppt/media/image41.wmf" ContentType="image/x-wmf"/>
  <Override PartName="/ppt/media/image42.png" ContentType="image/png"/>
  <Override PartName="/ppt/media/image23.jpeg" ContentType="image/jpeg"/>
  <Override PartName="/ppt/media/image43.png" ContentType="image/png"/>
  <Override PartName="/ppt/media/image44.wmf" ContentType="image/x-wmf"/>
  <Override PartName="/ppt/media/image12.wmf" ContentType="image/x-wmf"/>
  <Override PartName="/ppt/media/image4.png" ContentType="image/png"/>
  <Override PartName="/ppt/media/image27.png" ContentType="image/png"/>
  <Override PartName="/ppt/media/image30.wmf" ContentType="image/x-wmf"/>
  <Override PartName="/ppt/media/image37.wmf" ContentType="image/x-wmf"/>
  <Override PartName="/ppt/media/image7.wmf" ContentType="image/x-wmf"/>
  <Override PartName="/ppt/media/image26.png" ContentType="image/png"/>
  <Override PartName="/ppt/media/image36.wmf" ContentType="image/x-wmf"/>
  <Override PartName="/ppt/media/image6.wmf" ContentType="image/x-wmf"/>
  <Override PartName="/ppt/media/image11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3.wmf" ContentType="image/x-wmf"/>
  <Override PartName="/ppt/media/image3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383B-5B89-4A95-8E38-07B8E59A0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2471-20EF-405F-A25C-DFFE990D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3B1E-AB46-4BDD-AD91-A10E02C3B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2B44-1BAF-417B-B9BF-779854399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2632-3B08-4227-BF66-FDD99F57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13E8-13AC-4189-B039-80B3BC22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D5BC-16FC-4417-A8E2-3CF5414D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3727-66A3-475E-A620-14E7FB09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1884-8E5F-4036-B42F-6C4520E3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6060-31EE-4BA0-9EAF-C2E668A0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E790-24B3-4E9F-B23E-7937470A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E35E-4B07-4DD9-BF82-8BF2FB4D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143F-83E5-449E-855D-85D8F7418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ensic Ser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is distinguishable by type and can be used to link a sample to an indivi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 system i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are disastrous if different blood types are mix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two individuals, except twins were thought to have identical blood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factors are genetically contro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2541600" cy="896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696080" y="609480"/>
            <a:ext cx="887400" cy="887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848720" y="3962520"/>
            <a:ext cx="81432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 12-1 or 10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447920"/>
          <a:ext cx="8229600" cy="3123720"/>
        </p:xfrm>
        <a:graphic>
          <a:graphicData uri="http://schemas.openxmlformats.org/drawingml/2006/table">
            <a:tbl>
              <a:tblPr/>
              <a:tblGrid>
                <a:gridCol w="1143000"/>
                <a:gridCol w="2895480"/>
                <a:gridCol w="2133720"/>
                <a:gridCol w="2057400"/>
              </a:tblGrid>
              <a:tr h="97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gens 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-serum 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-serum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and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= reaction = agglutination, - = no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lso ID antibodies by adding cells with known anti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0120" y="380880"/>
            <a:ext cx="776160" cy="7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ommon is each blood ty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the table above. Which antibodies does each blood type contain and what will happen when A or B type cells ar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7200" y="1600200"/>
          <a:ext cx="8229600" cy="3014640"/>
        </p:xfrm>
        <a:graphic>
          <a:graphicData uri="http://schemas.openxmlformats.org/drawingml/2006/table">
            <a:tbl>
              <a:tblPr/>
              <a:tblGrid>
                <a:gridCol w="990720"/>
                <a:gridCol w="2301840"/>
                <a:gridCol w="1644480"/>
                <a:gridCol w="1646280"/>
                <a:gridCol w="16462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Popu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bo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+ A ce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+ B ce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nating Bl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 factor (+/-) must also be consid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is the universal donor, AB is the universal ac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57200" y="1600200"/>
          <a:ext cx="6553080" cy="2587680"/>
        </p:xfrm>
        <a:graphic>
          <a:graphicData uri="http://schemas.openxmlformats.org/drawingml/2006/table">
            <a:tbl>
              <a:tblPr/>
              <a:tblGrid>
                <a:gridCol w="1143000"/>
                <a:gridCol w="2895480"/>
                <a:gridCol w="2514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te to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 from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 on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,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ry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1371600" cy="1625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781680" y="2133720"/>
            <a:ext cx="2111400" cy="19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ensic Characterization of Blood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riminalist as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sample blo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which species did the sample origin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human, how closely is the sample associated with an individu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638680" y="3809880"/>
            <a:ext cx="3272040" cy="2849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248520" y="5335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990720" y="4191120"/>
            <a:ext cx="233028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the sample bloo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liminary color test is us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enolphthalein = Kastle-Meyer color 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stain + reduced phenolphthalein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mix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ample is blood, a deep pi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forms just like on televis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specific test for blood becau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vegetables like potatoes als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pink, although it is highly indic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740640" y="533520"/>
            <a:ext cx="2403360" cy="1541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162920" y="5181480"/>
            <a:ext cx="1795320" cy="1424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569360" y="3124080"/>
            <a:ext cx="15746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the Kastle-Meyer test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oglobin in blood is a protein that transports oxygen and gives blood its red c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oglobin possess peroxidase-like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oxidases are enzymes that accelerate oxidation of several organic compounds by perox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543800" y="5562720"/>
            <a:ext cx="851040" cy="850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599240" y="990720"/>
            <a:ext cx="154476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Preliminary Color Tes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astix stri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egon officers are not trained to use presumptive tests.  Why no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 officers are trained to collect swabs and submit them to the lab for tes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minol: produc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, not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419720" y="40006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umin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s are sprayed and viewed in a darkene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itive test, blood is still viewable after a 300 000x di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not interfere with DNA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324480" y="44197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Luminol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minol contains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only needs a catalyst or activ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minol releases energy (blue light) when mixed with an oxidizing agent (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an excited molecule is p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action rate is slow however iron in the blood serves as a cataly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181480" y="5257800"/>
            <a:ext cx="292572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cataly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atalyst speeds up a chemical re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atalyst is not consumed in a chemical reaction; it gets recyc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a small amount of catalyst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38862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ensic Ser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occurrence of blood stains at cr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now used instead of blood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419720" y="2743200"/>
            <a:ext cx="436248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 if we think the sample is blood, how do we know for s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crystalline test: chemicals are added and characteristic crystals of hemoglobin derivatives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ystal tests are less sensitive than color tests and more susceptible to interference from contamin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for human protein or DNA amplification also confirm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705720" y="4343400"/>
            <a:ext cx="2184120" cy="1903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-533520" y="46483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the blood hum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precipitin test: an antibody reacts with an antigen to form a precipi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antibodies for human and other animal blood are used such as dog, cat, d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_x000e_fg12_00700.jpg                                                 0002951C_x000c_Macintosh HD                   ABA78158:"/>
          <p:cNvPicPr/>
          <p:nvPr/>
        </p:nvPicPr>
        <p:blipFill>
          <a:blip r:embed="rId1"/>
          <a:stretch/>
        </p:blipFill>
        <p:spPr>
          <a:xfrm>
            <a:off x="1600200" y="2666880"/>
            <a:ext cx="592308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ipitin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nsitive test, even diluted and aged samples re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figures 12-6, 12-7 or 10-8, 10-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_x000e_fg12_00700.jpg                                                 0002951C_x000c_Macintosh HD                   ABA78158:"/>
          <p:cNvPicPr/>
          <p:nvPr/>
        </p:nvPicPr>
        <p:blipFill>
          <a:blip r:embed="rId1"/>
          <a:stretch/>
        </p:blipFill>
        <p:spPr>
          <a:xfrm>
            <a:off x="762120" y="2666880"/>
            <a:ext cx="710244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losely is the sample associated with an individu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now used however until the mid-90’s A-B-O typing wa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substances in blood were also us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zymes = proteins that regulate biochemical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morphic enzymes exist in different forms and can be separated into components called iso-enzy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everyone has the same iso-enzy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84320" cy="1817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7726320" y="5662440"/>
            <a:ext cx="141768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les of Hered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ally controlled traits are inherited from our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t heredity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development of specific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ed on chrom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095880" y="4800600"/>
            <a:ext cx="1630440" cy="1538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8153280" y="1981080"/>
            <a:ext cx="53352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dlike bo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nucleus of every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 human chromosomes in cells (23 pai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organized into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oductive cells have only 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mated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019920" y="1219320"/>
            <a:ext cx="1776240" cy="1630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629400" y="3809880"/>
            <a:ext cx="179712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oductive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g contains only a X chromosome (lo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contains either a X or Y chromosome (sho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her determines the sex of a ch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males are XX, males are 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osomes come together in pairs, so do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391520" y="2743200"/>
            <a:ext cx="1385640" cy="1817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867280" y="5027760"/>
            <a:ext cx="115092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us: position a gene occupies on a chromosome; similarly positioned on chromosome for certain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le: alternative forms of a gene located at the same point of a pair of chromosomes, ex. Blood types A, B, O; DNA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257800" y="4724280"/>
            <a:ext cx="151128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 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up of similar genes, one inherited from mom, the other from 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ozygous: has two identical allelic genes on two corresponding positions of a chromosome pair, ex. AA or B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erozygous: has two different allelic genes on two corresponding positions of a chromosome pair, ex. AO, BO, 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077320" y="304920"/>
            <a:ext cx="1066680" cy="18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erozygous gene 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gene is domin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and B are domin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is recessive (remains hidd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 and AO are both possible gene pairs for type A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cessive gene only shows when the pair is homozyg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781680" y="1447920"/>
            <a:ext cx="1225800" cy="1368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04920" y="533520"/>
            <a:ext cx="85068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e of Bl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ixture of cells, enzymes, proteins and inorga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sma(55%): fluid portion of blood; mostly water, contains suspende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pended cells (45%): solid por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ythrocytes: red blood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ukocytes: white blood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248520" y="4495680"/>
            <a:ext cx="256860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genetics term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otype: a pair of allele genes together; can’t be determined by a lab test; also called a gene comb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ens: characteristic chemical structures; unrelated to transporting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mpart blood-type characteristics, grouped into 15 different systems (A-B-O plus R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8381880" y="1676520"/>
            <a:ext cx="533520" cy="1798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629400" y="5334120"/>
            <a:ext cx="85104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Types and Anti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A blood has A antigens on the surface of the red blood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B blood has 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tigens on the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AB  blood has both A                    and B antigens on the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 blood has no antigens on the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943600" y="2133720"/>
            <a:ext cx="296244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econd Facto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esence or absence of antigens determines blood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h factor or D antig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 +: D antigen is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 -: D antigen is ab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blood banking, all three antigens must be consid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095880" y="2286000"/>
            <a:ext cx="173988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Gen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enotype: outward characteristic, blood type of A, B, AB or O is an example; the physical manifestation of a trait, hair color is another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nnett squares are helpful for determining possible genotypes of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her’s genes go on one s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her’s genes on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162920" y="4800600"/>
            <a:ext cx="1431720" cy="1755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7178760" y="-380880"/>
            <a:ext cx="196524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nnett Squ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gene can appear in a child unless the gene is present in at least one of the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ild’s genotype is the combination of a gene from each 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in paternity testing, not so much in criminal investigations, DNA is also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934320" y="5335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enotypes and Geno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209680"/>
                <a:gridCol w="2667240"/>
                <a:gridCol w="335268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o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ant Ge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 or A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B or B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ally express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162920" y="2514600"/>
            <a:ext cx="1739880" cy="1808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8153280" y="533520"/>
            <a:ext cx="70668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exampl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possible blood types, both genotype and phenotype for a child with a father with A blood and a mother with O blo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genotypes are possible with each blood phenotyp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a Punnett square for each possible genotype combination for each 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324480" y="0"/>
            <a:ext cx="2276640" cy="1601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28600" y="-228600"/>
            <a:ext cx="202104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the Nature of Bl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clot: protein in plasm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fibrin traps red bloo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al of clotted material = se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um is the pale yellow liquid you see when you have your blood drawn (if you loo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ll focus on the blood components directly related to forensics and blood identification: red blood cells and se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142040" y="5486400"/>
            <a:ext cx="2001960" cy="1521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804000" y="1066680"/>
            <a:ext cx="234000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lungs to body and remove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issues back to lu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surface of red blood cells are anit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bodies attach to antig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bodies are bivalent being they have two reactive sites so they can attach to antigens on two different red bloo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cross-linked cells = agglutin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234000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 12-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 Figure 10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_x000e_fg12_00100.jpg                                                 0002951C_x000c_Macintosh HD                   ABA78158:"/>
          <p:cNvPicPr/>
          <p:nvPr/>
        </p:nvPicPr>
        <p:blipFill>
          <a:blip r:embed="rId1"/>
          <a:stretch/>
        </p:blipFill>
        <p:spPr>
          <a:xfrm>
            <a:off x="3429000" y="457200"/>
            <a:ext cx="5330880" cy="5791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52280" y="3276720"/>
            <a:ext cx="296244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Bl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ens and antibodies coex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tibodies present are not specific for the antigens pre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hat happens when foreign serum is ad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gen-antibody reaction = aggluti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943600" y="4724280"/>
            <a:ext cx="3033720" cy="2133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752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605480"/>
        </p:xfrm>
        <a:graphic>
          <a:graphicData uri="http://schemas.openxmlformats.org/drawingml/2006/table">
            <a:tbl>
              <a:tblPr/>
              <a:tblGrid>
                <a:gridCol w="2133720"/>
                <a:gridCol w="2743200"/>
                <a:gridCol w="3352680"/>
              </a:tblGrid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gen 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bodies 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on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on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 A and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ither anti-A nor anti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ither A nor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 anti-A and  anti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324480" y="0"/>
            <a:ext cx="227664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why blood of different types should not be mixe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typing/serology: study of antigen-antibody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 tests: whole blood is typed using two antiserums, A and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ll do this in lab with imitation blo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781680" y="304920"/>
            <a:ext cx="1668600" cy="14065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9480" y="5410080"/>
            <a:ext cx="363060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9T15:46:30Z</dcterms:created>
  <dc:creator>LCC Department</dc:creator>
  <dc:description/>
  <dc:language>en-US</dc:language>
  <cp:lastModifiedBy>LCC Department</cp:lastModifiedBy>
  <dcterms:modified xsi:type="dcterms:W3CDTF">2011-05-13T16:39:49Z</dcterms:modified>
  <cp:revision>46</cp:revision>
  <dc:subject/>
  <dc:title>Forensic Serology</dc:title>
</cp:coreProperties>
</file>