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DE74-70AE-4D75-906C-3B52F8E5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819E-7267-43FC-8635-6023A465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CCC6-D261-4783-8628-20D083D5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898F-F1E7-4538-A008-CE8A400A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4B5D-DF81-4222-B490-1D1290AF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221B-FA48-45E4-B04A-D210F5CC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AA14-4902-4ADA-AA58-87A74DB0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F8A-DC62-4C22-8CC9-1458B0BE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476-BD30-44FE-A2F2-974198C3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0FFE-045B-4B62-A22C-571A6890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3B0-6008-4652-9DF4-63AC760D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54DD-79C6-4D4D-B889-F73D40F0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E8D7-8B19-4F7C-9B9D-EA6207427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114 Exam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s 1, 4, 5 a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guide = chapter summa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class activities, assignments, class discussion topics, PowerPoint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s (theory, procedure, data, calculations, ques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43600" y="4419720"/>
            <a:ext cx="245592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4952880"/>
            <a:ext cx="1788840" cy="164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24480" y="1371600"/>
            <a:ext cx="18176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6:04:41Z</dcterms:created>
  <dc:creator>LCC Department</dc:creator>
  <dc:description/>
  <dc:language>en-US</dc:language>
  <cp:lastModifiedBy>LCC Department</cp:lastModifiedBy>
  <dcterms:modified xsi:type="dcterms:W3CDTF">2012-04-30T22:16:26Z</dcterms:modified>
  <cp:revision>2</cp:revision>
  <dc:subject/>
  <dc:title>CH114 Exam #1</dc:title>
</cp:coreProperties>
</file>