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CFE-4440-4151-B5B6-59032E85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A8A-BB18-40C6-9C38-D7D9BD66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36D9-011A-4485-BE39-217FCEFF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E0F3-F9C3-4305-AEAD-D2E98A1E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2D2-7101-425D-8DCC-D91A3A35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D33-2FB7-43CC-8646-87399F60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C7B8-86B2-4C0A-B9C9-DB5061F3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5E7-252C-4F43-8123-E2126F20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B81F-005E-44AF-A17B-19380D6C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D84A-F60A-4CA8-A10D-856A60C3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F56-D74B-4AD1-8E62-F8CB8833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19FB-1CA9-44BC-BA99-144B17AF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F1DE-5FFA-456D-9C5E-F76DB4B56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rd’s Exchange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 two objects come into contact with one another, there is an exchange of materials between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 cross transfer of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9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iminalis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3124080"/>
            <a:ext cx="248292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Types of Physical Evidence for CH 1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oleum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and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2367000" cy="1825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00400" y="2209680"/>
            <a:ext cx="177624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Common Types of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body fluids such as sal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ger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48520" y="2057400"/>
            <a:ext cx="2394000" cy="2085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19720" y="44956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ination of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ication, 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physical or chemical identity of a substance with as near absolute certainty as existing analytical techniques will a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evidence share a common origin with a standard or reference sam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sample collected from a suspect is compared to a sample collected from the crime sc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glass characteriz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s sample collected from the suspect is compared to glass samples collected from the crime sc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95680" y="3733920"/>
            <a:ext cx="3463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ss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 scientists find and measure properties associating one glass fragment with another while minimizing or eliminating other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evidential value when a fragment can be individualized to on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the physical matching of crime scene and suspect glass (they fit toge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71936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the pieces don’t fit togeth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composition of window glass does not vary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elements have been found helpful for narrowing the origin of the 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ctive index and density are class characteristics; they cannot provide the sole criteria for individualizing glass to a common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15000" y="5275440"/>
            <a:ext cx="27781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refractive index and density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the analyst sufficient data to evaluate the significance of a glass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sence of comparable density and refractive index will exclude fragments originating from different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4952880"/>
            <a:ext cx="20988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11:10Z</dcterms:created>
  <dc:creator>LCC Department</dc:creator>
  <dc:description/>
  <dc:language>en-US</dc:language>
  <cp:lastModifiedBy>LCC Department</cp:lastModifiedBy>
  <dcterms:modified xsi:type="dcterms:W3CDTF">2011-04-06T16:39:26Z</dcterms:modified>
  <cp:revision>7</cp:revision>
  <dc:subject/>
  <dc:title>Locard’s Exchange Principle</dc:title>
</cp:coreProperties>
</file>